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C31-1901-4358-BB10-4029EA7B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DCC5-D545-4768-9206-4E6E80A2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A66-D73B-4344-A7EB-6F7815FE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AE2-624D-4B0C-A8E8-A0BA7157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D93A-6D77-4A74-8AA0-13CC4BE4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26C9-C0E8-494B-8BA1-1DC237DC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0A6F-FEBE-4B95-AA5C-4A001B1B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C9E1-0CEC-42C2-8A4B-95A4F163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6510-4957-4FF5-A6EB-05434110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1961-9FEF-4BF3-BE5E-1204CE94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7532-810D-42B4-AC38-5EDC9D65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2EC1-003C-45F2-939C-D60FAD37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AF7D-0542-424B-990C-1B69113E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193C-46F3-4801-8B75-880F1B89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E2F5-4EE0-40BA-8304-029B6303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D714-D9DE-4248-BE06-1DC0C831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149C-A1EF-443D-B3C0-820F02B6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90B-162C-4BA8-83CD-2D4B8A03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95C-D9EC-47FD-8B54-175A13AB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5FB-CD17-4074-AC5E-FF36B246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DC7-77CD-464D-957F-C4F2803A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83F-CCD4-4034-A876-36DBFA29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7E8-C3B0-49EB-A6B9-BE5B5D32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4991-9378-479B-B5E8-86021BFF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176A-D819-488D-9118-B95C38863964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0485000">
                  <a:off x="2055240" y="355356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CC2B-386C-4E7C-99AD-DDD2381E5574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43828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COMITÉ REGIONAL DE PREVENCIÓN DE MORTALIDAD MATERNA Y PERINATA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447560" y="114300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aeaea"/>
                </a:solidFill>
                <a:latin typeface="Tahoma"/>
              </a:rPr>
              <a:t>ANÁLISIS DE LA MUERTE MATERNA 2006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048120" cy="715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33720" y="28195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MUERTES MATERNAS Y PERIODO DE OCURRENCI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971640" y="1916280"/>
          <a:ext cx="7848000" cy="4176360"/>
        </p:xfrm>
        <a:graphic>
          <a:graphicData uri="http://schemas.openxmlformats.org/drawingml/2006/table">
            <a:tbl>
              <a:tblPr/>
              <a:tblGrid>
                <a:gridCol w="3371040"/>
                <a:gridCol w="1245600"/>
                <a:gridCol w="886320"/>
                <a:gridCol w="1324080"/>
                <a:gridCol w="1020960"/>
              </a:tblGrid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66"/>
                          </a:solidFill>
                          <a:latin typeface="Humanst521 BT"/>
                          <a:ea typeface="Times New Roman"/>
                        </a:rPr>
                        <a:t>CAUSA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66"/>
                          </a:solidFill>
                          <a:latin typeface="Humanst521 BT"/>
                          <a:ea typeface="Times New Roman"/>
                        </a:rPr>
                        <a:t>EMBARA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66"/>
                          </a:solidFill>
                          <a:latin typeface="Humanst521 BT"/>
                          <a:ea typeface="Times New Roman"/>
                        </a:rPr>
                        <a:t>PART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66"/>
                          </a:solidFill>
                          <a:latin typeface="Humanst521 BT"/>
                          <a:ea typeface="Times New Roman"/>
                        </a:rPr>
                        <a:t>PUERPERI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66"/>
                          </a:solidFill>
                          <a:latin typeface="Humanst521 BT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PE" sz="1400" spc="-1" strike="noStrike">
                          <a:solidFill>
                            <a:srgbClr val="ffff66"/>
                          </a:solidFill>
                          <a:latin typeface="Humanst521 BT"/>
                          <a:ea typeface="Times New Roman"/>
                        </a:rPr>
                        <a:t>DIRECTA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PE" sz="14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PE" sz="14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PE" sz="14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PE" sz="14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HEMORRAGI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ABORTO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INFECCIÓ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HIPERTENSIÓ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PE" sz="1400" spc="-1" strike="noStrike">
                          <a:solidFill>
                            <a:srgbClr val="ffff66"/>
                          </a:solidFill>
                          <a:latin typeface="Humanst521 BT"/>
                          <a:ea typeface="Times New Roman"/>
                        </a:rPr>
                        <a:t>INDIRECTA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PE" sz="14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PE" sz="14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PE" sz="14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PE" sz="14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TBC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CARDIOPATÍ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OTROS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eaeaea"/>
                          </a:solidFill>
                          <a:latin typeface="Humanst521 BT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PE" sz="1400" spc="-1" strike="noStrike">
                          <a:solidFill>
                            <a:srgbClr val="ffff66"/>
                          </a:solidFill>
                          <a:latin typeface="Humanst521 BT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PE" sz="1400" spc="-1" strike="noStrike">
                          <a:solidFill>
                            <a:srgbClr val="ffff66"/>
                          </a:solidFill>
                          <a:latin typeface="Humanst521 BT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PE" sz="1400" spc="-1" strike="noStrike">
                          <a:solidFill>
                            <a:srgbClr val="ffff66"/>
                          </a:solidFill>
                          <a:latin typeface="Humanst521 BT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PE" sz="1400" spc="-1" strike="noStrike">
                          <a:solidFill>
                            <a:srgbClr val="ffff66"/>
                          </a:solidFill>
                          <a:latin typeface="Humanst521 BT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PE" sz="1400" spc="-1" strike="noStrike">
                          <a:solidFill>
                            <a:srgbClr val="ffff66"/>
                          </a:solidFill>
                          <a:latin typeface="Humanst521 BT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MUERTES MATERNAS Y PERIODO DE OCURRENCI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79280" y="1557360"/>
          <a:ext cx="8964720" cy="50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557360"/>
                    <a:ext cx="8964720" cy="50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MUERTES MATERNAS POR PROCEDENCIA Y LUGAR DE OCURRENCIA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85800" y="1523880"/>
            <a:ext cx="8305560" cy="5181840"/>
            <a:chOff x="685800" y="1523880"/>
            <a:chExt cx="8305560" cy="5181840"/>
          </a:xfrm>
        </p:grpSpPr>
        <p:grpSp>
          <p:nvGrpSpPr>
            <p:cNvPr id="445" name=""/>
            <p:cNvGrpSpPr/>
            <p:nvPr/>
          </p:nvGrpSpPr>
          <p:grpSpPr>
            <a:xfrm>
              <a:off x="691560" y="1526760"/>
              <a:ext cx="8293320" cy="5175360"/>
              <a:chOff x="691560" y="1526760"/>
              <a:chExt cx="8293320" cy="517536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691560" y="1526760"/>
                <a:ext cx="2990880" cy="947880"/>
                <a:chOff x="691560" y="1526760"/>
                <a:chExt cx="2990880" cy="9478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691560" y="1526760"/>
                  <a:ext cx="299088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691560" y="1526760"/>
                  <a:ext cx="2990520" cy="947880"/>
                  <a:chOff x="691560" y="1526760"/>
                  <a:chExt cx="2990520" cy="94788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747000" y="1526760"/>
                    <a:ext cx="2879640" cy="94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14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ESTABLECIMIENTO</a:t>
                    </a:r>
                    <a:endParaRPr b="0" lang="en-US" sz="1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691560" y="1526760"/>
                    <a:ext cx="2990520" cy="9478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3682800" y="1526760"/>
                <a:ext cx="2481480" cy="414720"/>
                <a:chOff x="3682800" y="1526760"/>
                <a:chExt cx="2481480" cy="4147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3682800" y="1526760"/>
                  <a:ext cx="248148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3682800" y="1526760"/>
                  <a:ext cx="2481120" cy="414720"/>
                  <a:chOff x="3682800" y="1526760"/>
                  <a:chExt cx="2481120" cy="4147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3738600" y="1526760"/>
                    <a:ext cx="2369160" cy="414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14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PROCEDENCIA</a:t>
                    </a:r>
                    <a:endParaRPr b="0" lang="en-US" sz="1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3682800" y="1526760"/>
                    <a:ext cx="2481120" cy="41472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6165000" y="1526760"/>
                <a:ext cx="449640" cy="414720"/>
                <a:chOff x="6165000" y="1526760"/>
                <a:chExt cx="449640" cy="4147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220440" y="1526760"/>
                  <a:ext cx="33840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165000" y="1526760"/>
                  <a:ext cx="4496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615360" y="1526760"/>
                <a:ext cx="2369520" cy="414720"/>
                <a:chOff x="6615360" y="1526760"/>
                <a:chExt cx="2369520" cy="4147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6615360" y="1526760"/>
                  <a:ext cx="23695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1" name=""/>
                <p:cNvGrpSpPr/>
                <p:nvPr/>
              </p:nvGrpSpPr>
              <p:grpSpPr>
                <a:xfrm>
                  <a:off x="6615360" y="1526760"/>
                  <a:ext cx="2369160" cy="414720"/>
                  <a:chOff x="6615360" y="1526760"/>
                  <a:chExt cx="2369160" cy="4147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6670800" y="1526760"/>
                    <a:ext cx="2258280" cy="414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14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OCURRENCIA</a:t>
                    </a:r>
                    <a:endParaRPr b="0" lang="en-US" sz="1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6615360" y="1526760"/>
                    <a:ext cx="2369160" cy="41472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4" name=""/>
              <p:cNvGrpSpPr/>
              <p:nvPr/>
            </p:nvGrpSpPr>
            <p:grpSpPr>
              <a:xfrm>
                <a:off x="3682800" y="1941480"/>
                <a:ext cx="1578960" cy="533160"/>
                <a:chOff x="3682800" y="1941480"/>
                <a:chExt cx="1578960" cy="533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3682800" y="1941480"/>
                  <a:ext cx="157896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6" name=""/>
                <p:cNvGrpSpPr/>
                <p:nvPr/>
              </p:nvGrpSpPr>
              <p:grpSpPr>
                <a:xfrm>
                  <a:off x="3682800" y="1941480"/>
                  <a:ext cx="1578600" cy="533160"/>
                  <a:chOff x="3682800" y="1941480"/>
                  <a:chExt cx="1578600" cy="53316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3738600" y="1941480"/>
                    <a:ext cx="1467000" cy="5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14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Nº MUERTES</a:t>
                    </a:r>
                    <a:endParaRPr b="0" lang="en-US" sz="1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3682800" y="1941480"/>
                    <a:ext cx="1578600" cy="533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9" name=""/>
              <p:cNvGrpSpPr/>
              <p:nvPr/>
            </p:nvGrpSpPr>
            <p:grpSpPr>
              <a:xfrm>
                <a:off x="5262480" y="1941480"/>
                <a:ext cx="901800" cy="533160"/>
                <a:chOff x="5262480" y="1941480"/>
                <a:chExt cx="901800" cy="53316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5262480" y="1941480"/>
                  <a:ext cx="9018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1" name=""/>
                <p:cNvGrpSpPr/>
                <p:nvPr/>
              </p:nvGrpSpPr>
              <p:grpSpPr>
                <a:xfrm>
                  <a:off x="5262480" y="1941480"/>
                  <a:ext cx="901440" cy="533160"/>
                  <a:chOff x="5262480" y="1941480"/>
                  <a:chExt cx="901440" cy="53316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5318280" y="1941480"/>
                    <a:ext cx="789480" cy="5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14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%</a:t>
                    </a:r>
                    <a:endParaRPr b="0" lang="en-US" sz="1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5262480" y="1941480"/>
                    <a:ext cx="901440" cy="533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4" name=""/>
              <p:cNvGrpSpPr/>
              <p:nvPr/>
            </p:nvGrpSpPr>
            <p:grpSpPr>
              <a:xfrm>
                <a:off x="6165000" y="1941480"/>
                <a:ext cx="449640" cy="533160"/>
                <a:chOff x="6165000" y="1941480"/>
                <a:chExt cx="449640" cy="5331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6220440" y="1941480"/>
                  <a:ext cx="3384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165000" y="1941480"/>
                  <a:ext cx="44964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6615360" y="1941480"/>
                <a:ext cx="1421280" cy="533160"/>
                <a:chOff x="6615360" y="1941480"/>
                <a:chExt cx="1421280" cy="5331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615360" y="1941480"/>
                  <a:ext cx="142128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9" name=""/>
                <p:cNvGrpSpPr/>
                <p:nvPr/>
              </p:nvGrpSpPr>
              <p:grpSpPr>
                <a:xfrm>
                  <a:off x="6615360" y="1941480"/>
                  <a:ext cx="1420920" cy="533160"/>
                  <a:chOff x="6615360" y="1941480"/>
                  <a:chExt cx="1420920" cy="5331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6670800" y="1941480"/>
                    <a:ext cx="1310040" cy="5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14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Nº MUERTES</a:t>
                    </a:r>
                    <a:endParaRPr b="0" lang="en-US" sz="1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615360" y="1941480"/>
                    <a:ext cx="1420920" cy="533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2" name=""/>
              <p:cNvGrpSpPr/>
              <p:nvPr/>
            </p:nvGrpSpPr>
            <p:grpSpPr>
              <a:xfrm>
                <a:off x="8037360" y="1941480"/>
                <a:ext cx="947520" cy="533160"/>
                <a:chOff x="8037360" y="1941480"/>
                <a:chExt cx="947520" cy="533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8037360" y="1941480"/>
                  <a:ext cx="94752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4" name=""/>
                <p:cNvGrpSpPr/>
                <p:nvPr/>
              </p:nvGrpSpPr>
              <p:grpSpPr>
                <a:xfrm>
                  <a:off x="8037360" y="1941480"/>
                  <a:ext cx="947160" cy="533160"/>
                  <a:chOff x="8037360" y="1941480"/>
                  <a:chExt cx="947160" cy="53316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8093160" y="1941480"/>
                    <a:ext cx="835920" cy="5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14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%</a:t>
                    </a:r>
                    <a:endParaRPr b="0" lang="en-US" sz="1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8037360" y="1941480"/>
                    <a:ext cx="947160" cy="533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7" name=""/>
              <p:cNvGrpSpPr/>
              <p:nvPr/>
            </p:nvGrpSpPr>
            <p:grpSpPr>
              <a:xfrm>
                <a:off x="691560" y="2474640"/>
                <a:ext cx="2990880" cy="414720"/>
                <a:chOff x="691560" y="2474640"/>
                <a:chExt cx="2990880" cy="4147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747000" y="2474640"/>
                  <a:ext cx="288000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RED CAMANA – CARAVELI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91560" y="2474640"/>
                  <a:ext cx="299088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3682800" y="2474640"/>
                <a:ext cx="1578960" cy="414720"/>
                <a:chOff x="3682800" y="2474640"/>
                <a:chExt cx="1578960" cy="4147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3738600" y="2474640"/>
                  <a:ext cx="146736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-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682800" y="2474640"/>
                  <a:ext cx="157896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5262480" y="2474640"/>
                <a:ext cx="901800" cy="414720"/>
                <a:chOff x="5262480" y="2474640"/>
                <a:chExt cx="901800" cy="4147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5318280" y="2474640"/>
                  <a:ext cx="78984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-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262480" y="2474640"/>
                  <a:ext cx="90180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6165000" y="2474640"/>
                <a:ext cx="449640" cy="414720"/>
                <a:chOff x="6165000" y="2474640"/>
                <a:chExt cx="449640" cy="4147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6220440" y="2474640"/>
                  <a:ext cx="33840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165000" y="2474640"/>
                  <a:ext cx="4496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6615360" y="2474640"/>
                <a:ext cx="1421280" cy="414720"/>
                <a:chOff x="6615360" y="2474640"/>
                <a:chExt cx="1421280" cy="4147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6670800" y="2474640"/>
                  <a:ext cx="131040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-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615360" y="2474640"/>
                  <a:ext cx="142128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8037360" y="2474640"/>
                <a:ext cx="947520" cy="414720"/>
                <a:chOff x="8037360" y="2474640"/>
                <a:chExt cx="947520" cy="41472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8093160" y="2474640"/>
                  <a:ext cx="8359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-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037360" y="2474640"/>
                  <a:ext cx="94752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691560" y="2889720"/>
                <a:ext cx="2990880" cy="533160"/>
                <a:chOff x="691560" y="2889720"/>
                <a:chExt cx="2990880" cy="53316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747000" y="2889720"/>
                  <a:ext cx="28800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RED CASTILLA – CONDESUYOS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91560" y="2889720"/>
                  <a:ext cx="299088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3682800" y="2889720"/>
                <a:ext cx="1578960" cy="533160"/>
                <a:chOff x="3682800" y="2889720"/>
                <a:chExt cx="1578960" cy="5331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3738600" y="2889720"/>
                  <a:ext cx="146736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682800" y="2889720"/>
                  <a:ext cx="157896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5262480" y="2889720"/>
                <a:ext cx="901800" cy="533160"/>
                <a:chOff x="5262480" y="2889720"/>
                <a:chExt cx="901800" cy="5331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5318280" y="2889720"/>
                  <a:ext cx="78984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8.7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262480" y="2889720"/>
                  <a:ext cx="90180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6165000" y="2889720"/>
                <a:ext cx="449640" cy="533160"/>
                <a:chOff x="6165000" y="2889720"/>
                <a:chExt cx="449640" cy="53316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6220440" y="2889720"/>
                  <a:ext cx="3384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165000" y="2889720"/>
                  <a:ext cx="44964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6615360" y="2889720"/>
                <a:ext cx="1421280" cy="533160"/>
                <a:chOff x="6615360" y="2889720"/>
                <a:chExt cx="1421280" cy="53316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6670800" y="2889720"/>
                  <a:ext cx="13104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615360" y="2889720"/>
                  <a:ext cx="142128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8037360" y="2889720"/>
                <a:ext cx="947520" cy="533160"/>
                <a:chOff x="8037360" y="2889720"/>
                <a:chExt cx="947520" cy="53316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8093160" y="2889720"/>
                  <a:ext cx="83592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8.7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037360" y="2889720"/>
                  <a:ext cx="94752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691560" y="3423240"/>
                <a:ext cx="2990880" cy="533160"/>
                <a:chOff x="691560" y="3423240"/>
                <a:chExt cx="2990880" cy="5331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747000" y="3423240"/>
                  <a:ext cx="28800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RED AQP AREQUIPA - CAYLLOMA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91560" y="3423240"/>
                  <a:ext cx="299088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3682800" y="3423240"/>
                <a:ext cx="1578960" cy="533160"/>
                <a:chOff x="3682800" y="3423240"/>
                <a:chExt cx="1578960" cy="5331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738600" y="3423240"/>
                  <a:ext cx="146736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6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682800" y="3423240"/>
                  <a:ext cx="157896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5262480" y="3423240"/>
                <a:ext cx="901800" cy="533160"/>
                <a:chOff x="5262480" y="3423240"/>
                <a:chExt cx="901800" cy="53316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318280" y="3423240"/>
                  <a:ext cx="78984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69.7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262480" y="3423240"/>
                  <a:ext cx="90180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165000" y="3423240"/>
                <a:ext cx="449640" cy="533160"/>
                <a:chOff x="6165000" y="3423240"/>
                <a:chExt cx="449640" cy="5331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220440" y="3423240"/>
                  <a:ext cx="3384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165000" y="3423240"/>
                  <a:ext cx="44964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6615360" y="3423240"/>
                <a:ext cx="1421280" cy="533160"/>
                <a:chOff x="6615360" y="3423240"/>
                <a:chExt cx="1421280" cy="533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670800" y="3423240"/>
                  <a:ext cx="13104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4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615360" y="3423240"/>
                  <a:ext cx="142128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8037360" y="3423240"/>
                <a:ext cx="947520" cy="533160"/>
                <a:chOff x="8037360" y="3423240"/>
                <a:chExt cx="947520" cy="53316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8093160" y="3423240"/>
                  <a:ext cx="83592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7.4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037360" y="3423240"/>
                  <a:ext cx="94752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691560" y="3956400"/>
                <a:ext cx="2990880" cy="414720"/>
                <a:chOff x="691560" y="3956400"/>
                <a:chExt cx="2990880" cy="4147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47000" y="3956400"/>
                  <a:ext cx="288000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RED ISLAY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91560" y="3956400"/>
                  <a:ext cx="299088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3682800" y="3956400"/>
                <a:ext cx="1578960" cy="414720"/>
                <a:chOff x="3682800" y="3956400"/>
                <a:chExt cx="1578960" cy="4147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3738600" y="3956400"/>
                  <a:ext cx="146736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-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682800" y="3956400"/>
                  <a:ext cx="157896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5262480" y="3956400"/>
                <a:ext cx="901800" cy="414720"/>
                <a:chOff x="5262480" y="3956400"/>
                <a:chExt cx="901800" cy="4147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5318280" y="3956400"/>
                  <a:ext cx="78984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-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262480" y="3956400"/>
                  <a:ext cx="90180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6165000" y="3956400"/>
                <a:ext cx="449640" cy="414720"/>
                <a:chOff x="6165000" y="3956400"/>
                <a:chExt cx="449640" cy="41472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6220440" y="3956400"/>
                  <a:ext cx="33840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165000" y="3956400"/>
                  <a:ext cx="4496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6615360" y="3956400"/>
                <a:ext cx="1421280" cy="414720"/>
                <a:chOff x="6615360" y="3956400"/>
                <a:chExt cx="1421280" cy="4147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6670800" y="3956400"/>
                  <a:ext cx="131040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-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615360" y="3956400"/>
                  <a:ext cx="142128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8037360" y="3956400"/>
                <a:ext cx="947520" cy="414720"/>
                <a:chOff x="8037360" y="3956400"/>
                <a:chExt cx="947520" cy="41472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8093160" y="3956400"/>
                  <a:ext cx="8359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-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037360" y="3956400"/>
                  <a:ext cx="94752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691560" y="4371480"/>
                <a:ext cx="2990880" cy="533160"/>
                <a:chOff x="691560" y="4371480"/>
                <a:chExt cx="2990880" cy="53316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747000" y="4371480"/>
                  <a:ext cx="28800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HOSPITAL HONORIO DELGADO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91560" y="4371480"/>
                  <a:ext cx="299088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3682800" y="4371480"/>
                <a:ext cx="1578960" cy="533160"/>
                <a:chOff x="3682800" y="4371480"/>
                <a:chExt cx="1578960" cy="53316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3738600" y="4371480"/>
                  <a:ext cx="146736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-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682800" y="4371480"/>
                  <a:ext cx="157896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5262480" y="4371480"/>
                <a:ext cx="901800" cy="533160"/>
                <a:chOff x="5262480" y="4371480"/>
                <a:chExt cx="901800" cy="5331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5318280" y="4371480"/>
                  <a:ext cx="78984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-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262480" y="4371480"/>
                  <a:ext cx="90180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6165000" y="4371480"/>
                <a:ext cx="449640" cy="533160"/>
                <a:chOff x="6165000" y="4371480"/>
                <a:chExt cx="449640" cy="53316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6220440" y="4371480"/>
                  <a:ext cx="3384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6165000" y="4371480"/>
                  <a:ext cx="44964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6615360" y="4371480"/>
                <a:ext cx="1421280" cy="533160"/>
                <a:chOff x="6615360" y="4371480"/>
                <a:chExt cx="1421280" cy="53316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6670800" y="4371480"/>
                  <a:ext cx="13104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8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6615360" y="4371480"/>
                  <a:ext cx="142128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8037360" y="4371480"/>
                <a:ext cx="947520" cy="533160"/>
                <a:chOff x="8037360" y="4371480"/>
                <a:chExt cx="947520" cy="53316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8093160" y="4371480"/>
                  <a:ext cx="83592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34.8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037360" y="4371480"/>
                  <a:ext cx="94752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691560" y="4904640"/>
                <a:ext cx="2990880" cy="414720"/>
                <a:chOff x="691560" y="4904640"/>
                <a:chExt cx="2990880" cy="41472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747000" y="4904640"/>
                  <a:ext cx="288000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HOSPITAL GOYENECHE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91560" y="4904640"/>
                  <a:ext cx="299088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3682800" y="4904640"/>
                <a:ext cx="1578960" cy="414720"/>
                <a:chOff x="3682800" y="4904640"/>
                <a:chExt cx="1578960" cy="4147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3738600" y="4904640"/>
                  <a:ext cx="146736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682800" y="4904640"/>
                  <a:ext cx="157896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5262480" y="4904640"/>
                <a:ext cx="901800" cy="414720"/>
                <a:chOff x="5262480" y="4904640"/>
                <a:chExt cx="901800" cy="41472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5318280" y="4904640"/>
                  <a:ext cx="78984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4.3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262480" y="4904640"/>
                  <a:ext cx="90180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6165000" y="4904640"/>
                <a:ext cx="449640" cy="414720"/>
                <a:chOff x="6165000" y="4904640"/>
                <a:chExt cx="449640" cy="41472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6220440" y="4904640"/>
                  <a:ext cx="33840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165000" y="4904640"/>
                  <a:ext cx="4496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6615360" y="4904640"/>
                <a:ext cx="1421280" cy="414720"/>
                <a:chOff x="6615360" y="4904640"/>
                <a:chExt cx="1421280" cy="41472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6670800" y="4904640"/>
                  <a:ext cx="131040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6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6615360" y="4904640"/>
                  <a:ext cx="142128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8037360" y="4904640"/>
                <a:ext cx="947520" cy="414720"/>
                <a:chOff x="8037360" y="4904640"/>
                <a:chExt cx="947520" cy="4147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8093160" y="4904640"/>
                  <a:ext cx="8359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26.1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8037360" y="4904640"/>
                  <a:ext cx="94752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691560" y="5319360"/>
                <a:ext cx="2990880" cy="415080"/>
                <a:chOff x="691560" y="5319360"/>
                <a:chExt cx="2990880" cy="41508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747000" y="5319360"/>
                  <a:ext cx="288000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ESSALUD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91560" y="5319360"/>
                  <a:ext cx="2990880" cy="415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3682800" y="5319360"/>
                <a:ext cx="1578960" cy="415080"/>
                <a:chOff x="3682800" y="5319360"/>
                <a:chExt cx="1578960" cy="41508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738600" y="5319360"/>
                  <a:ext cx="146736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682800" y="5319360"/>
                  <a:ext cx="1578960" cy="415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5262480" y="5319360"/>
                <a:ext cx="901800" cy="415080"/>
                <a:chOff x="5262480" y="5319360"/>
                <a:chExt cx="901800" cy="4150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5318280" y="5319360"/>
                  <a:ext cx="78984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3.0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262480" y="5319360"/>
                  <a:ext cx="901800" cy="415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6165000" y="5319360"/>
                <a:ext cx="449640" cy="415080"/>
                <a:chOff x="6165000" y="5319360"/>
                <a:chExt cx="449640" cy="4150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6220440" y="5319360"/>
                  <a:ext cx="33840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165000" y="5319360"/>
                  <a:ext cx="449640" cy="415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6615360" y="5319360"/>
                <a:ext cx="1421280" cy="415080"/>
                <a:chOff x="6615360" y="5319360"/>
                <a:chExt cx="1421280" cy="41508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6670800" y="5319360"/>
                  <a:ext cx="131040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6615360" y="5319360"/>
                  <a:ext cx="1421280" cy="415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8037360" y="5319360"/>
                <a:ext cx="947520" cy="415080"/>
                <a:chOff x="8037360" y="5319360"/>
                <a:chExt cx="947520" cy="41508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8093160" y="5319360"/>
                  <a:ext cx="83592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3.0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8037360" y="5319360"/>
                  <a:ext cx="947520" cy="415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691560" y="5734800"/>
                <a:ext cx="2990880" cy="533160"/>
                <a:chOff x="691560" y="5734800"/>
                <a:chExt cx="2990880" cy="53316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747000" y="5734800"/>
                  <a:ext cx="28800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DEPARTAMENTO MOQUEGUA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91560" y="5734800"/>
                  <a:ext cx="299088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3682800" y="5734800"/>
                <a:ext cx="1578960" cy="533160"/>
                <a:chOff x="3682800" y="5734800"/>
                <a:chExt cx="1578960" cy="53316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738600" y="5734800"/>
                  <a:ext cx="146736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682800" y="5734800"/>
                  <a:ext cx="157896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5262480" y="5734800"/>
                <a:ext cx="901800" cy="533160"/>
                <a:chOff x="5262480" y="5734800"/>
                <a:chExt cx="901800" cy="53316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318280" y="5734800"/>
                  <a:ext cx="78984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4.3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262480" y="5734800"/>
                  <a:ext cx="90180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6165000" y="5734800"/>
                <a:ext cx="449640" cy="533160"/>
                <a:chOff x="6165000" y="5734800"/>
                <a:chExt cx="449640" cy="53316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6220440" y="5734800"/>
                  <a:ext cx="3384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165000" y="5734800"/>
                  <a:ext cx="44964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6615360" y="5734800"/>
                <a:ext cx="1421280" cy="533160"/>
                <a:chOff x="6615360" y="5734800"/>
                <a:chExt cx="1421280" cy="53316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6670800" y="5734800"/>
                  <a:ext cx="13104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-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615360" y="5734800"/>
                  <a:ext cx="142128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8037360" y="5734800"/>
                <a:ext cx="947520" cy="533160"/>
                <a:chOff x="8037360" y="5734800"/>
                <a:chExt cx="947520" cy="5331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8093160" y="5734800"/>
                  <a:ext cx="83592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-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037360" y="5734800"/>
                  <a:ext cx="947520" cy="53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691560" y="6267960"/>
                <a:ext cx="2990880" cy="434160"/>
                <a:chOff x="691560" y="6267960"/>
                <a:chExt cx="2990880" cy="43416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691560" y="6267960"/>
                  <a:ext cx="2990880" cy="43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3" name=""/>
                <p:cNvGrpSpPr/>
                <p:nvPr/>
              </p:nvGrpSpPr>
              <p:grpSpPr>
                <a:xfrm>
                  <a:off x="691560" y="6267960"/>
                  <a:ext cx="2990520" cy="434160"/>
                  <a:chOff x="691560" y="6267960"/>
                  <a:chExt cx="2990520" cy="43416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747000" y="6267960"/>
                    <a:ext cx="2879640" cy="43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16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TOTAL</a:t>
                    </a: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691560" y="6267960"/>
                    <a:ext cx="2990520" cy="434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36" name=""/>
              <p:cNvGrpSpPr/>
              <p:nvPr/>
            </p:nvGrpSpPr>
            <p:grpSpPr>
              <a:xfrm>
                <a:off x="3682800" y="6267960"/>
                <a:ext cx="1578960" cy="434160"/>
                <a:chOff x="3682800" y="6267960"/>
                <a:chExt cx="1578960" cy="4341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3682800" y="6267960"/>
                  <a:ext cx="1578960" cy="43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8" name=""/>
                <p:cNvGrpSpPr/>
                <p:nvPr/>
              </p:nvGrpSpPr>
              <p:grpSpPr>
                <a:xfrm>
                  <a:off x="3682800" y="6267960"/>
                  <a:ext cx="1578600" cy="434160"/>
                  <a:chOff x="3682800" y="6267960"/>
                  <a:chExt cx="1578600" cy="43416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>
                    <a:off x="3738600" y="6267960"/>
                    <a:ext cx="1467000" cy="43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16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23</a:t>
                    </a: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3682800" y="6267960"/>
                    <a:ext cx="1578600" cy="434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41" name=""/>
              <p:cNvGrpSpPr/>
              <p:nvPr/>
            </p:nvGrpSpPr>
            <p:grpSpPr>
              <a:xfrm>
                <a:off x="5262480" y="6267960"/>
                <a:ext cx="901800" cy="434160"/>
                <a:chOff x="5262480" y="6267960"/>
                <a:chExt cx="901800" cy="434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5262480" y="6267960"/>
                  <a:ext cx="901800" cy="43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5262480" y="6267960"/>
                  <a:ext cx="901440" cy="434160"/>
                  <a:chOff x="5262480" y="6267960"/>
                  <a:chExt cx="901440" cy="43416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5318280" y="6267960"/>
                    <a:ext cx="789480" cy="43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16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100.0</a:t>
                    </a: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5262480" y="6267960"/>
                    <a:ext cx="901440" cy="434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46" name=""/>
              <p:cNvGrpSpPr/>
              <p:nvPr/>
            </p:nvGrpSpPr>
            <p:grpSpPr>
              <a:xfrm>
                <a:off x="6165000" y="6267960"/>
                <a:ext cx="449640" cy="434160"/>
                <a:chOff x="6165000" y="6267960"/>
                <a:chExt cx="449640" cy="43416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6220440" y="6267960"/>
                  <a:ext cx="338400" cy="43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6165000" y="6267960"/>
                  <a:ext cx="449640" cy="434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6615360" y="6267960"/>
                <a:ext cx="1421280" cy="434160"/>
                <a:chOff x="6615360" y="6267960"/>
                <a:chExt cx="1421280" cy="43416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6615360" y="6267960"/>
                  <a:ext cx="1421280" cy="43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1" name=""/>
                <p:cNvGrpSpPr/>
                <p:nvPr/>
              </p:nvGrpSpPr>
              <p:grpSpPr>
                <a:xfrm>
                  <a:off x="6615360" y="6267960"/>
                  <a:ext cx="1420920" cy="434160"/>
                  <a:chOff x="6615360" y="6267960"/>
                  <a:chExt cx="1420920" cy="43416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6670800" y="6267960"/>
                    <a:ext cx="1310040" cy="43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16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23</a:t>
                    </a: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6615360" y="6267960"/>
                    <a:ext cx="1420920" cy="434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4" name=""/>
              <p:cNvGrpSpPr/>
              <p:nvPr/>
            </p:nvGrpSpPr>
            <p:grpSpPr>
              <a:xfrm>
                <a:off x="8037360" y="6267960"/>
                <a:ext cx="947520" cy="434160"/>
                <a:chOff x="8037360" y="6267960"/>
                <a:chExt cx="947520" cy="43416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8037360" y="6267960"/>
                  <a:ext cx="947520" cy="43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6" name=""/>
                <p:cNvGrpSpPr/>
                <p:nvPr/>
              </p:nvGrpSpPr>
              <p:grpSpPr>
                <a:xfrm>
                  <a:off x="8037360" y="6267960"/>
                  <a:ext cx="947160" cy="434160"/>
                  <a:chOff x="8037360" y="6267960"/>
                  <a:chExt cx="947160" cy="43416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>
                    <a:off x="8093160" y="6267960"/>
                    <a:ext cx="835920" cy="43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16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100.0</a:t>
                    </a: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8037360" y="6267960"/>
                    <a:ext cx="947160" cy="434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59" name=""/>
            <p:cNvSpPr/>
            <p:nvPr/>
          </p:nvSpPr>
          <p:spPr>
            <a:xfrm>
              <a:off x="685800" y="1523880"/>
              <a:ext cx="8305560" cy="518184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Tahoma"/>
              </a:rPr>
              <a:t>MUERTES MATERNAS POR PROCEDENCIA Y LUGAR DE OCURRENCIA 20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539640" y="1719360"/>
          <a:ext cx="8604360" cy="506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19360"/>
                    <a:ext cx="860436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NÚMERO DE CASOS DE MUERTE MATERNA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IRESA - AREQUIPA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838080" y="1523880"/>
            <a:ext cx="8283600" cy="5292720"/>
            <a:chOff x="838080" y="1523880"/>
            <a:chExt cx="8283600" cy="5292720"/>
          </a:xfrm>
        </p:grpSpPr>
        <p:grpSp>
          <p:nvGrpSpPr>
            <p:cNvPr id="665" name=""/>
            <p:cNvGrpSpPr/>
            <p:nvPr/>
          </p:nvGrpSpPr>
          <p:grpSpPr>
            <a:xfrm>
              <a:off x="842040" y="1527480"/>
              <a:ext cx="8274600" cy="5285160"/>
              <a:chOff x="842040" y="1527480"/>
              <a:chExt cx="8274600" cy="5285160"/>
            </a:xfrm>
          </p:grpSpPr>
          <p:grpSp>
            <p:nvGrpSpPr>
              <p:cNvPr id="666" name=""/>
              <p:cNvGrpSpPr/>
              <p:nvPr/>
            </p:nvGrpSpPr>
            <p:grpSpPr>
              <a:xfrm>
                <a:off x="842040" y="1527480"/>
                <a:ext cx="2458440" cy="903960"/>
                <a:chOff x="842040" y="1527480"/>
                <a:chExt cx="2458440" cy="90396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882000" y="1527480"/>
                  <a:ext cx="2377440" cy="90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            </a:t>
                  </a:r>
                  <a:r>
                    <a:rPr b="1" lang="es-PE" sz="1400" spc="-1" strike="noStrike">
                      <a:solidFill>
                        <a:srgbClr val="ffff99"/>
                      </a:solidFill>
                      <a:latin typeface="Verdana"/>
                      <a:ea typeface="Times New Roman"/>
                    </a:rPr>
                    <a:t>AÑO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200" spc="-1" strike="noStrike">
                      <a:solidFill>
                        <a:srgbClr val="ffff99"/>
                      </a:solidFill>
                      <a:latin typeface="Verdana"/>
                      <a:ea typeface="Times New Roman"/>
                    </a:rPr>
                    <a:t> </a:t>
                  </a:r>
                  <a:r>
                    <a:rPr b="1" lang="es-PE" sz="1200" spc="-1" strike="noStrike">
                      <a:solidFill>
                        <a:srgbClr val="ffff99"/>
                      </a:solidFill>
                      <a:latin typeface="Verdana"/>
                      <a:ea typeface="Times New Roman"/>
                    </a:rPr>
                    <a:t>REDES</a:t>
                  </a:r>
                  <a:r>
                    <a:rPr b="1" lang="es-PE" sz="1400" spc="-1" strike="noStrike">
                      <a:solidFill>
                        <a:srgbClr val="ffff99"/>
                      </a:solidFill>
                      <a:latin typeface="Verdana"/>
                      <a:ea typeface="Times New Roman"/>
                    </a:rPr>
                    <a:t> – </a:t>
                  </a:r>
                  <a:r>
                    <a:rPr b="1" lang="es-PE" sz="1200" spc="-1" strike="noStrike">
                      <a:solidFill>
                        <a:srgbClr val="ffff99"/>
                      </a:solidFill>
                      <a:latin typeface="Verdana"/>
                      <a:ea typeface="Times New Roman"/>
                    </a:rPr>
                    <a:t>HOSPITALES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842040" y="1527480"/>
                  <a:ext cx="2458440" cy="90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3300480" y="1527480"/>
                <a:ext cx="2211480" cy="903960"/>
                <a:chOff x="3300480" y="1527480"/>
                <a:chExt cx="2211480" cy="9039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3340440" y="1527480"/>
                  <a:ext cx="2130480" cy="90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ffff99"/>
                      </a:solidFill>
                      <a:latin typeface="Verdana"/>
                      <a:ea typeface="Times New Roman"/>
                    </a:rPr>
                    <a:t>2004 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3300480" y="1527480"/>
                  <a:ext cx="2211480" cy="90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5511960" y="1527480"/>
                <a:ext cx="1911960" cy="903960"/>
                <a:chOff x="5511960" y="1527480"/>
                <a:chExt cx="1911960" cy="90396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551920" y="1527480"/>
                  <a:ext cx="1830960" cy="90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ffff99"/>
                      </a:solidFill>
                      <a:latin typeface="Verdana"/>
                      <a:ea typeface="Times New Roman"/>
                    </a:rPr>
                    <a:t>2005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511960" y="1527480"/>
                  <a:ext cx="1911960" cy="90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7424280" y="1527480"/>
                <a:ext cx="1692360" cy="903960"/>
                <a:chOff x="7424280" y="1527480"/>
                <a:chExt cx="1692360" cy="90396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7464240" y="1527480"/>
                  <a:ext cx="1611360" cy="90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ffff99"/>
                      </a:solidFill>
                      <a:latin typeface="Verdana"/>
                      <a:ea typeface="Times New Roman"/>
                    </a:rPr>
                    <a:t>2006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7424280" y="1527480"/>
                  <a:ext cx="1692360" cy="90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842040" y="2431440"/>
                <a:ext cx="2458440" cy="523440"/>
                <a:chOff x="842040" y="2431440"/>
                <a:chExt cx="2458440" cy="52344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882000" y="2431440"/>
                  <a:ext cx="237744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RED CAMANA CARAVELI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42040" y="2431440"/>
                  <a:ext cx="245844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3300480" y="2431440"/>
                <a:ext cx="2211480" cy="523440"/>
                <a:chOff x="3300480" y="2431440"/>
                <a:chExt cx="2211480" cy="52344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3340440" y="2431440"/>
                  <a:ext cx="213048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-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300480" y="2431440"/>
                  <a:ext cx="221148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5511960" y="2431440"/>
                <a:ext cx="1911960" cy="523440"/>
                <a:chOff x="5511960" y="2431440"/>
                <a:chExt cx="1911960" cy="52344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5551920" y="2431440"/>
                  <a:ext cx="183096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511960" y="2431440"/>
                  <a:ext cx="191196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7424280" y="2431440"/>
                <a:ext cx="1692360" cy="523440"/>
                <a:chOff x="7424280" y="2431440"/>
                <a:chExt cx="1692360" cy="52344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7464240" y="2431440"/>
                  <a:ext cx="161136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-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424280" y="2431440"/>
                  <a:ext cx="169236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842040" y="2955240"/>
                <a:ext cx="2458440" cy="619920"/>
                <a:chOff x="842040" y="2955240"/>
                <a:chExt cx="2458440" cy="6199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882000" y="2955240"/>
                  <a:ext cx="2377440" cy="61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RED    CASTILLA CONDESUYOS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842040" y="2955240"/>
                  <a:ext cx="2458440" cy="619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3300480" y="2955240"/>
                <a:ext cx="2211480" cy="619920"/>
                <a:chOff x="3300480" y="2955240"/>
                <a:chExt cx="2211480" cy="6199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3340440" y="2955240"/>
                  <a:ext cx="2130480" cy="61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300480" y="2955240"/>
                  <a:ext cx="2211480" cy="619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5511960" y="2955240"/>
                <a:ext cx="1911960" cy="619920"/>
                <a:chOff x="5511960" y="2955240"/>
                <a:chExt cx="1911960" cy="61992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5551920" y="2955240"/>
                  <a:ext cx="1830960" cy="61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-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511960" y="2955240"/>
                  <a:ext cx="1911960" cy="619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7424280" y="2955240"/>
                <a:ext cx="1692360" cy="619920"/>
                <a:chOff x="7424280" y="2955240"/>
                <a:chExt cx="1692360" cy="61992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7464240" y="2955240"/>
                  <a:ext cx="1611360" cy="61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7424280" y="2955240"/>
                  <a:ext cx="1692360" cy="619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842040" y="3575160"/>
                <a:ext cx="2458440" cy="523440"/>
                <a:chOff x="842040" y="3575160"/>
                <a:chExt cx="2458440" cy="5234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882000" y="3575160"/>
                  <a:ext cx="237744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RED     ISLAY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842040" y="3575160"/>
                  <a:ext cx="245844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3300480" y="3575160"/>
                <a:ext cx="2211480" cy="523440"/>
                <a:chOff x="3300480" y="3575160"/>
                <a:chExt cx="2211480" cy="52344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340440" y="3575160"/>
                  <a:ext cx="213048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-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3300480" y="3575160"/>
                  <a:ext cx="221148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5511960" y="3575160"/>
                <a:ext cx="1911960" cy="523440"/>
                <a:chOff x="5511960" y="3575160"/>
                <a:chExt cx="1911960" cy="52344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5551920" y="3575160"/>
                  <a:ext cx="183096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-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511960" y="3575160"/>
                  <a:ext cx="191196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7424280" y="3575160"/>
                <a:ext cx="1692360" cy="523440"/>
                <a:chOff x="7424280" y="3575160"/>
                <a:chExt cx="1692360" cy="5234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464240" y="3575160"/>
                  <a:ext cx="161136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-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7424280" y="3575160"/>
                  <a:ext cx="169236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842040" y="4098600"/>
                <a:ext cx="2458440" cy="523440"/>
                <a:chOff x="842040" y="4098600"/>
                <a:chExt cx="2458440" cy="5234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882000" y="4098600"/>
                  <a:ext cx="237744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eaeaea"/>
                      </a:solidFill>
                      <a:latin typeface="Verdana"/>
                    </a:rPr>
                    <a:t>RED     AREQUIPA CAYLLOMA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842040" y="4098600"/>
                  <a:ext cx="245844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3300480" y="4098600"/>
                <a:ext cx="2211480" cy="523440"/>
                <a:chOff x="3300480" y="4098600"/>
                <a:chExt cx="2211480" cy="5234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3340440" y="4098600"/>
                  <a:ext cx="213048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300480" y="4098600"/>
                  <a:ext cx="221148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5511960" y="4098600"/>
                <a:ext cx="1911960" cy="523440"/>
                <a:chOff x="5511960" y="4098600"/>
                <a:chExt cx="1911960" cy="52344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5551920" y="4098600"/>
                  <a:ext cx="183096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511960" y="4098600"/>
                  <a:ext cx="191196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7424280" y="4098600"/>
                <a:ext cx="1692360" cy="523440"/>
                <a:chOff x="7424280" y="4098600"/>
                <a:chExt cx="1692360" cy="5234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7464240" y="4098600"/>
                  <a:ext cx="161136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7424280" y="4098600"/>
                  <a:ext cx="169236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842040" y="4622040"/>
                <a:ext cx="2458440" cy="619920"/>
                <a:chOff x="842040" y="4622040"/>
                <a:chExt cx="2458440" cy="61992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882000" y="4622040"/>
                  <a:ext cx="2377440" cy="61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HOSPITAL HONORIO DELGADO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42040" y="4622040"/>
                  <a:ext cx="2458440" cy="619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300480" y="4622040"/>
                <a:ext cx="2211480" cy="619920"/>
                <a:chOff x="3300480" y="4622040"/>
                <a:chExt cx="2211480" cy="61992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340440" y="4622040"/>
                  <a:ext cx="2130480" cy="61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300480" y="4622040"/>
                  <a:ext cx="2211480" cy="619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5511960" y="4622040"/>
                <a:ext cx="1911960" cy="619920"/>
                <a:chOff x="5511960" y="4622040"/>
                <a:chExt cx="1911960" cy="61992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5551920" y="4622040"/>
                  <a:ext cx="1830960" cy="61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511960" y="4622040"/>
                  <a:ext cx="1911960" cy="619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7424280" y="4622040"/>
                <a:ext cx="1692360" cy="619920"/>
                <a:chOff x="7424280" y="4622040"/>
                <a:chExt cx="1692360" cy="61992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7464240" y="4622040"/>
                  <a:ext cx="1611360" cy="61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8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424280" y="4622040"/>
                  <a:ext cx="1692360" cy="619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842040" y="5242320"/>
                <a:ext cx="2458440" cy="523440"/>
                <a:chOff x="842040" y="5242320"/>
                <a:chExt cx="2458440" cy="52344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882000" y="5242320"/>
                  <a:ext cx="237744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HOSPITAL GOYENECHE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842040" y="5242320"/>
                  <a:ext cx="245844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300480" y="5242320"/>
                <a:ext cx="2211480" cy="523440"/>
                <a:chOff x="3300480" y="5242320"/>
                <a:chExt cx="2211480" cy="5234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340440" y="5242320"/>
                  <a:ext cx="213048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300480" y="5242320"/>
                  <a:ext cx="221148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5511960" y="5242320"/>
                <a:ext cx="1911960" cy="523440"/>
                <a:chOff x="5511960" y="5242320"/>
                <a:chExt cx="1911960" cy="5234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5551920" y="5242320"/>
                  <a:ext cx="183096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511960" y="5242320"/>
                  <a:ext cx="191196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7424280" y="5242320"/>
                <a:ext cx="1692360" cy="523440"/>
                <a:chOff x="7424280" y="5242320"/>
                <a:chExt cx="1692360" cy="5234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7464240" y="5242320"/>
                  <a:ext cx="161136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424280" y="5242320"/>
                  <a:ext cx="169236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842040" y="5765760"/>
                <a:ext cx="2458440" cy="523440"/>
                <a:chOff x="842040" y="5765760"/>
                <a:chExt cx="2458440" cy="5234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882000" y="5765760"/>
                  <a:ext cx="237744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ESSALUD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842040" y="5765760"/>
                  <a:ext cx="245844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3300480" y="5765760"/>
                <a:ext cx="2211480" cy="523440"/>
                <a:chOff x="3300480" y="5765760"/>
                <a:chExt cx="2211480" cy="5234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3340440" y="5765760"/>
                  <a:ext cx="213048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-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300480" y="5765760"/>
                  <a:ext cx="221148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5511960" y="5765760"/>
                <a:ext cx="1911960" cy="523440"/>
                <a:chOff x="5511960" y="5765760"/>
                <a:chExt cx="1911960" cy="5234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551920" y="5765760"/>
                  <a:ext cx="183096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511960" y="5765760"/>
                  <a:ext cx="191196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7424280" y="5765760"/>
                <a:ext cx="1692360" cy="523440"/>
                <a:chOff x="7424280" y="5765760"/>
                <a:chExt cx="1692360" cy="52344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7464240" y="5765760"/>
                  <a:ext cx="161136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14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7424280" y="5765760"/>
                  <a:ext cx="169236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842040" y="6289200"/>
                <a:ext cx="2458440" cy="523440"/>
                <a:chOff x="842040" y="6289200"/>
                <a:chExt cx="2458440" cy="5234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882000" y="6289200"/>
                  <a:ext cx="237744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ffff99"/>
                      </a:solidFill>
                      <a:latin typeface="Verdana"/>
                      <a:ea typeface="Times New Roman"/>
                    </a:rPr>
                    <a:t>TOTAL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842040" y="6289200"/>
                  <a:ext cx="245844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3300480" y="6289200"/>
                <a:ext cx="2211480" cy="523440"/>
                <a:chOff x="3300480" y="6289200"/>
                <a:chExt cx="2211480" cy="52344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3340440" y="6289200"/>
                  <a:ext cx="213048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400" spc="-1" strike="noStrike">
                      <a:solidFill>
                        <a:srgbClr val="ffff99"/>
                      </a:solidFill>
                      <a:latin typeface="Verdana"/>
                      <a:ea typeface="Times New Roman"/>
                    </a:rPr>
                    <a:t>14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3300480" y="6289200"/>
                  <a:ext cx="221148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5511960" y="6289200"/>
                <a:ext cx="1911960" cy="523440"/>
                <a:chOff x="5511960" y="6289200"/>
                <a:chExt cx="1911960" cy="52344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5551920" y="6289200"/>
                  <a:ext cx="183096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99"/>
                      </a:solidFill>
                      <a:latin typeface="Verdana"/>
                      <a:ea typeface="Times New Roman"/>
                    </a:rPr>
                    <a:t>10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511960" y="6289200"/>
                  <a:ext cx="191196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7424280" y="6289200"/>
                <a:ext cx="1692360" cy="523440"/>
                <a:chOff x="7424280" y="6289200"/>
                <a:chExt cx="1692360" cy="52344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7464240" y="6289200"/>
                  <a:ext cx="1611360" cy="52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99"/>
                      </a:solidFill>
                      <a:latin typeface="Verdana"/>
                      <a:ea typeface="Times New Roman"/>
                    </a:rPr>
                    <a:t>23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7424280" y="6289200"/>
                  <a:ext cx="1692360" cy="523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4" name=""/>
            <p:cNvSpPr/>
            <p:nvPr/>
          </p:nvSpPr>
          <p:spPr>
            <a:xfrm>
              <a:off x="838080" y="1523880"/>
              <a:ext cx="8283600" cy="529272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66"/>
                </a:solidFill>
                <a:latin typeface="Arial"/>
              </a:rPr>
              <a:t>NÚMERO DE CASOS DE MUERTE MATERNA</a:t>
            </a: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DIRESA - AREQUIPA 20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6" name="1 Gráfico" descr=""/>
          <p:cNvPicPr/>
          <p:nvPr/>
        </p:nvPicPr>
        <p:blipFill>
          <a:blip r:embed="rId1"/>
          <a:stretch/>
        </p:blipFill>
        <p:spPr>
          <a:xfrm>
            <a:off x="0" y="1700280"/>
            <a:ext cx="8964720" cy="566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87320" y="39348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66"/>
                </a:solidFill>
                <a:latin typeface="Arial"/>
                <a:ea typeface="Arial"/>
              </a:rPr>
              <a:t>MUERTES MATERNAS  PERIODO 1998 – 2005  AREQUIP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914400" y="1600200"/>
            <a:ext cx="7848360" cy="5029200"/>
            <a:chOff x="914400" y="1600200"/>
            <a:chExt cx="7848360" cy="5029200"/>
          </a:xfrm>
        </p:grpSpPr>
        <p:grpSp>
          <p:nvGrpSpPr>
            <p:cNvPr id="779" name=""/>
            <p:cNvGrpSpPr/>
            <p:nvPr/>
          </p:nvGrpSpPr>
          <p:grpSpPr>
            <a:xfrm>
              <a:off x="920160" y="1603800"/>
              <a:ext cx="7835400" cy="5022000"/>
              <a:chOff x="920160" y="1603800"/>
              <a:chExt cx="7835400" cy="5022000"/>
            </a:xfrm>
          </p:grpSpPr>
          <p:grpSp>
            <p:nvGrpSpPr>
              <p:cNvPr id="780" name=""/>
              <p:cNvGrpSpPr/>
              <p:nvPr/>
            </p:nvGrpSpPr>
            <p:grpSpPr>
              <a:xfrm>
                <a:off x="920160" y="1603800"/>
                <a:ext cx="1199160" cy="1060200"/>
                <a:chOff x="920160" y="1603800"/>
                <a:chExt cx="1199160" cy="106020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920160" y="1603800"/>
                  <a:ext cx="1199160" cy="10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2" name=""/>
                <p:cNvGrpSpPr/>
                <p:nvPr/>
              </p:nvGrpSpPr>
              <p:grpSpPr>
                <a:xfrm>
                  <a:off x="920160" y="1603800"/>
                  <a:ext cx="1198800" cy="1060200"/>
                  <a:chOff x="920160" y="1603800"/>
                  <a:chExt cx="1198800" cy="106020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>
                    <a:off x="976320" y="1603800"/>
                    <a:ext cx="1086120" cy="106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eaeaea"/>
                        </a:solidFill>
                        <a:latin typeface="MS Sans Serif"/>
                        <a:ea typeface="Arial"/>
                      </a:rPr>
                      <a:t> 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920160" y="1603800"/>
                    <a:ext cx="1198800" cy="1060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5" name=""/>
              <p:cNvGrpSpPr/>
              <p:nvPr/>
            </p:nvGrpSpPr>
            <p:grpSpPr>
              <a:xfrm>
                <a:off x="2119680" y="1603800"/>
                <a:ext cx="1827720" cy="1060200"/>
                <a:chOff x="2119680" y="1603800"/>
                <a:chExt cx="1827720" cy="106020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2119680" y="1603800"/>
                  <a:ext cx="1827720" cy="10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7" name=""/>
                <p:cNvGrpSpPr/>
                <p:nvPr/>
              </p:nvGrpSpPr>
              <p:grpSpPr>
                <a:xfrm>
                  <a:off x="2119680" y="1603800"/>
                  <a:ext cx="1827360" cy="1060200"/>
                  <a:chOff x="2119680" y="1603800"/>
                  <a:chExt cx="1827360" cy="106020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2176200" y="1603800"/>
                    <a:ext cx="1714320" cy="106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eaeaea"/>
                        </a:solidFill>
                        <a:latin typeface="MS Sans Serif"/>
                        <a:ea typeface="Arial"/>
                      </a:rPr>
                      <a:t> 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2119680" y="1603800"/>
                    <a:ext cx="1827360" cy="1060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90" name=""/>
              <p:cNvGrpSpPr/>
              <p:nvPr/>
            </p:nvGrpSpPr>
            <p:grpSpPr>
              <a:xfrm>
                <a:off x="3948120" y="1603800"/>
                <a:ext cx="2518560" cy="1060200"/>
                <a:chOff x="3948120" y="1603800"/>
                <a:chExt cx="2518560" cy="106020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3948120" y="1603800"/>
                  <a:ext cx="2518560" cy="10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2" name=""/>
                <p:cNvGrpSpPr/>
                <p:nvPr/>
              </p:nvGrpSpPr>
              <p:grpSpPr>
                <a:xfrm>
                  <a:off x="3948120" y="1603800"/>
                  <a:ext cx="2518200" cy="1060200"/>
                  <a:chOff x="3948120" y="1603800"/>
                  <a:chExt cx="2518200" cy="1060200"/>
                </a:xfrm>
              </p:grpSpPr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4006440" y="1603800"/>
                    <a:ext cx="2400840" cy="810000"/>
                    <a:chOff x="4006440" y="1603800"/>
                    <a:chExt cx="2400840" cy="81000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>
                      <a:off x="4006440" y="1603800"/>
                      <a:ext cx="2400840" cy="657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MS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>
                      <a:off x="4006440" y="2062800"/>
                      <a:ext cx="2400840" cy="35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6" name=""/>
                  <p:cNvSpPr/>
                  <p:nvPr/>
                </p:nvSpPr>
                <p:spPr>
                  <a:xfrm>
                    <a:off x="3948120" y="1603800"/>
                    <a:ext cx="2518200" cy="1060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97" name=""/>
              <p:cNvGrpSpPr/>
              <p:nvPr/>
            </p:nvGrpSpPr>
            <p:grpSpPr>
              <a:xfrm>
                <a:off x="6467400" y="1603800"/>
                <a:ext cx="2288160" cy="1060200"/>
                <a:chOff x="6467400" y="1603800"/>
                <a:chExt cx="2288160" cy="106020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6467400" y="1603800"/>
                  <a:ext cx="2288160" cy="10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9" name=""/>
                <p:cNvGrpSpPr/>
                <p:nvPr/>
              </p:nvGrpSpPr>
              <p:grpSpPr>
                <a:xfrm>
                  <a:off x="6467400" y="1603800"/>
                  <a:ext cx="2287800" cy="1060200"/>
                  <a:chOff x="6467400" y="1603800"/>
                  <a:chExt cx="2287800" cy="106020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>
                    <a:off x="6523920" y="1603800"/>
                    <a:ext cx="2174760" cy="106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eaeaea"/>
                        </a:solidFill>
                        <a:latin typeface="MS Sans Serif"/>
                        <a:ea typeface="Arial"/>
                      </a:rPr>
                      <a:t> 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6467400" y="1603800"/>
                    <a:ext cx="2287800" cy="1060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2" name=""/>
              <p:cNvGrpSpPr/>
              <p:nvPr/>
            </p:nvGrpSpPr>
            <p:grpSpPr>
              <a:xfrm>
                <a:off x="920160" y="2664000"/>
                <a:ext cx="1199160" cy="495000"/>
                <a:chOff x="920160" y="2664000"/>
                <a:chExt cx="1199160" cy="49500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920160" y="2664000"/>
                  <a:ext cx="11991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4" name=""/>
                <p:cNvGrpSpPr/>
                <p:nvPr/>
              </p:nvGrpSpPr>
              <p:grpSpPr>
                <a:xfrm>
                  <a:off x="920160" y="2664000"/>
                  <a:ext cx="1198800" cy="495000"/>
                  <a:chOff x="920160" y="2664000"/>
                  <a:chExt cx="1198800" cy="49500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976320" y="2664000"/>
                    <a:ext cx="108612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1998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920160" y="2664000"/>
                    <a:ext cx="11988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7" name=""/>
              <p:cNvGrpSpPr/>
              <p:nvPr/>
            </p:nvGrpSpPr>
            <p:grpSpPr>
              <a:xfrm>
                <a:off x="2119680" y="2664000"/>
                <a:ext cx="1827720" cy="495000"/>
                <a:chOff x="2119680" y="2664000"/>
                <a:chExt cx="1827720" cy="4950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2119680" y="2664000"/>
                  <a:ext cx="182772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9" name=""/>
                <p:cNvGrpSpPr/>
                <p:nvPr/>
              </p:nvGrpSpPr>
              <p:grpSpPr>
                <a:xfrm>
                  <a:off x="2119680" y="2664000"/>
                  <a:ext cx="1827360" cy="495000"/>
                  <a:chOff x="2119680" y="2664000"/>
                  <a:chExt cx="1827360" cy="49500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>
                    <a:off x="2176200" y="2664000"/>
                    <a:ext cx="171432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12,622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2119680" y="2664000"/>
                    <a:ext cx="182736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12" name=""/>
              <p:cNvGrpSpPr/>
              <p:nvPr/>
            </p:nvGrpSpPr>
            <p:grpSpPr>
              <a:xfrm>
                <a:off x="3948120" y="2664000"/>
                <a:ext cx="2518560" cy="495000"/>
                <a:chOff x="3948120" y="2664000"/>
                <a:chExt cx="2518560" cy="49500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3948120" y="2664000"/>
                  <a:ext cx="25185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4" name=""/>
                <p:cNvGrpSpPr/>
                <p:nvPr/>
              </p:nvGrpSpPr>
              <p:grpSpPr>
                <a:xfrm>
                  <a:off x="3948120" y="2664000"/>
                  <a:ext cx="2518200" cy="495000"/>
                  <a:chOff x="3948120" y="2664000"/>
                  <a:chExt cx="2518200" cy="495000"/>
                </a:xfrm>
              </p:grpSpPr>
              <p:sp>
                <p:nvSpPr>
                  <p:cNvPr id="815" name=""/>
                  <p:cNvSpPr/>
                  <p:nvPr/>
                </p:nvSpPr>
                <p:spPr>
                  <a:xfrm>
                    <a:off x="4004640" y="2664000"/>
                    <a:ext cx="240516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20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3948120" y="2664000"/>
                    <a:ext cx="25182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17" name=""/>
              <p:cNvGrpSpPr/>
              <p:nvPr/>
            </p:nvGrpSpPr>
            <p:grpSpPr>
              <a:xfrm>
                <a:off x="6467400" y="2664000"/>
                <a:ext cx="2288160" cy="495000"/>
                <a:chOff x="6467400" y="2664000"/>
                <a:chExt cx="2288160" cy="49500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6467400" y="2664000"/>
                  <a:ext cx="22881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9" name=""/>
                <p:cNvGrpSpPr/>
                <p:nvPr/>
              </p:nvGrpSpPr>
              <p:grpSpPr>
                <a:xfrm>
                  <a:off x="6467400" y="2664000"/>
                  <a:ext cx="2287800" cy="495000"/>
                  <a:chOff x="6467400" y="2664000"/>
                  <a:chExt cx="2287800" cy="49500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>
                    <a:off x="6523920" y="2664000"/>
                    <a:ext cx="217476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158,5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6467400" y="2664000"/>
                    <a:ext cx="22878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22" name=""/>
              <p:cNvGrpSpPr/>
              <p:nvPr/>
            </p:nvGrpSpPr>
            <p:grpSpPr>
              <a:xfrm>
                <a:off x="920160" y="3159360"/>
                <a:ext cx="1199160" cy="495000"/>
                <a:chOff x="920160" y="3159360"/>
                <a:chExt cx="1199160" cy="49500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920160" y="3159360"/>
                  <a:ext cx="11991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4" name=""/>
                <p:cNvGrpSpPr/>
                <p:nvPr/>
              </p:nvGrpSpPr>
              <p:grpSpPr>
                <a:xfrm>
                  <a:off x="920160" y="3159360"/>
                  <a:ext cx="1198800" cy="495000"/>
                  <a:chOff x="920160" y="3159360"/>
                  <a:chExt cx="1198800" cy="495000"/>
                </a:xfrm>
              </p:grpSpPr>
              <p:sp>
                <p:nvSpPr>
                  <p:cNvPr id="825" name=""/>
                  <p:cNvSpPr/>
                  <p:nvPr/>
                </p:nvSpPr>
                <p:spPr>
                  <a:xfrm>
                    <a:off x="976320" y="3159360"/>
                    <a:ext cx="108612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1999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920160" y="3159360"/>
                    <a:ext cx="11988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27" name=""/>
              <p:cNvGrpSpPr/>
              <p:nvPr/>
            </p:nvGrpSpPr>
            <p:grpSpPr>
              <a:xfrm>
                <a:off x="2119680" y="3159360"/>
                <a:ext cx="1827720" cy="495000"/>
                <a:chOff x="2119680" y="3159360"/>
                <a:chExt cx="1827720" cy="49500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2119680" y="3159360"/>
                  <a:ext cx="182772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9" name=""/>
                <p:cNvGrpSpPr/>
                <p:nvPr/>
              </p:nvGrpSpPr>
              <p:grpSpPr>
                <a:xfrm>
                  <a:off x="2119680" y="3159360"/>
                  <a:ext cx="1827360" cy="495000"/>
                  <a:chOff x="2119680" y="3159360"/>
                  <a:chExt cx="1827360" cy="495000"/>
                </a:xfrm>
              </p:grpSpPr>
              <p:sp>
                <p:nvSpPr>
                  <p:cNvPr id="830" name=""/>
                  <p:cNvSpPr/>
                  <p:nvPr/>
                </p:nvSpPr>
                <p:spPr>
                  <a:xfrm>
                    <a:off x="2176200" y="3159360"/>
                    <a:ext cx="171432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14,028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2119680" y="3159360"/>
                    <a:ext cx="182736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2" name=""/>
              <p:cNvGrpSpPr/>
              <p:nvPr/>
            </p:nvGrpSpPr>
            <p:grpSpPr>
              <a:xfrm>
                <a:off x="3948120" y="3159360"/>
                <a:ext cx="2518560" cy="495000"/>
                <a:chOff x="3948120" y="3159360"/>
                <a:chExt cx="2518560" cy="49500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3948120" y="3159360"/>
                  <a:ext cx="25185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4" name=""/>
                <p:cNvGrpSpPr/>
                <p:nvPr/>
              </p:nvGrpSpPr>
              <p:grpSpPr>
                <a:xfrm>
                  <a:off x="3948120" y="3159360"/>
                  <a:ext cx="2518200" cy="495000"/>
                  <a:chOff x="3948120" y="3159360"/>
                  <a:chExt cx="2518200" cy="495000"/>
                </a:xfrm>
              </p:grpSpPr>
              <p:sp>
                <p:nvSpPr>
                  <p:cNvPr id="835" name=""/>
                  <p:cNvSpPr/>
                  <p:nvPr/>
                </p:nvSpPr>
                <p:spPr>
                  <a:xfrm>
                    <a:off x="4004640" y="3159360"/>
                    <a:ext cx="240516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18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3948120" y="3159360"/>
                    <a:ext cx="25182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7" name=""/>
              <p:cNvGrpSpPr/>
              <p:nvPr/>
            </p:nvGrpSpPr>
            <p:grpSpPr>
              <a:xfrm>
                <a:off x="6467400" y="3159360"/>
                <a:ext cx="2288160" cy="495000"/>
                <a:chOff x="6467400" y="3159360"/>
                <a:chExt cx="2288160" cy="49500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6467400" y="3159360"/>
                  <a:ext cx="22881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9" name=""/>
                <p:cNvGrpSpPr/>
                <p:nvPr/>
              </p:nvGrpSpPr>
              <p:grpSpPr>
                <a:xfrm>
                  <a:off x="6467400" y="3159360"/>
                  <a:ext cx="2287800" cy="495000"/>
                  <a:chOff x="6467400" y="3159360"/>
                  <a:chExt cx="2287800" cy="49500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>
                    <a:off x="6523920" y="3159360"/>
                    <a:ext cx="217476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128,3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6467400" y="3159360"/>
                    <a:ext cx="22878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42" name=""/>
              <p:cNvGrpSpPr/>
              <p:nvPr/>
            </p:nvGrpSpPr>
            <p:grpSpPr>
              <a:xfrm>
                <a:off x="920160" y="3654360"/>
                <a:ext cx="1199160" cy="495000"/>
                <a:chOff x="920160" y="3654360"/>
                <a:chExt cx="1199160" cy="49500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920160" y="3654360"/>
                  <a:ext cx="11991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4" name=""/>
                <p:cNvGrpSpPr/>
                <p:nvPr/>
              </p:nvGrpSpPr>
              <p:grpSpPr>
                <a:xfrm>
                  <a:off x="920160" y="3654360"/>
                  <a:ext cx="1198800" cy="495000"/>
                  <a:chOff x="920160" y="3654360"/>
                  <a:chExt cx="1198800" cy="49500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>
                    <a:off x="976320" y="3654360"/>
                    <a:ext cx="108612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2000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920160" y="3654360"/>
                    <a:ext cx="11988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47" name=""/>
              <p:cNvGrpSpPr/>
              <p:nvPr/>
            </p:nvGrpSpPr>
            <p:grpSpPr>
              <a:xfrm>
                <a:off x="2119680" y="3654360"/>
                <a:ext cx="1827720" cy="495000"/>
                <a:chOff x="2119680" y="3654360"/>
                <a:chExt cx="1827720" cy="4950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2119680" y="3654360"/>
                  <a:ext cx="182772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9" name=""/>
                <p:cNvGrpSpPr/>
                <p:nvPr/>
              </p:nvGrpSpPr>
              <p:grpSpPr>
                <a:xfrm>
                  <a:off x="2119680" y="3654360"/>
                  <a:ext cx="1827360" cy="495000"/>
                  <a:chOff x="2119680" y="3654360"/>
                  <a:chExt cx="1827360" cy="49500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2176200" y="3654360"/>
                    <a:ext cx="171432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13,164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2119680" y="3654360"/>
                    <a:ext cx="182736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52" name=""/>
              <p:cNvGrpSpPr/>
              <p:nvPr/>
            </p:nvGrpSpPr>
            <p:grpSpPr>
              <a:xfrm>
                <a:off x="3948120" y="3654360"/>
                <a:ext cx="2518560" cy="495000"/>
                <a:chOff x="3948120" y="3654360"/>
                <a:chExt cx="2518560" cy="49500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3948120" y="3654360"/>
                  <a:ext cx="25185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4" name=""/>
                <p:cNvGrpSpPr/>
                <p:nvPr/>
              </p:nvGrpSpPr>
              <p:grpSpPr>
                <a:xfrm>
                  <a:off x="3948120" y="3654360"/>
                  <a:ext cx="2518200" cy="495000"/>
                  <a:chOff x="3948120" y="3654360"/>
                  <a:chExt cx="2518200" cy="49500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>
                    <a:off x="4004640" y="3654360"/>
                    <a:ext cx="240516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13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3948120" y="3654360"/>
                    <a:ext cx="25182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57" name=""/>
              <p:cNvGrpSpPr/>
              <p:nvPr/>
            </p:nvGrpSpPr>
            <p:grpSpPr>
              <a:xfrm>
                <a:off x="6467400" y="3654360"/>
                <a:ext cx="2288160" cy="495000"/>
                <a:chOff x="6467400" y="3654360"/>
                <a:chExt cx="2288160" cy="49500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6467400" y="3654360"/>
                  <a:ext cx="22881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9" name=""/>
                <p:cNvGrpSpPr/>
                <p:nvPr/>
              </p:nvGrpSpPr>
              <p:grpSpPr>
                <a:xfrm>
                  <a:off x="6467400" y="3654360"/>
                  <a:ext cx="2287800" cy="495000"/>
                  <a:chOff x="6467400" y="3654360"/>
                  <a:chExt cx="2287800" cy="495000"/>
                </a:xfrm>
              </p:grpSpPr>
              <p:sp>
                <p:nvSpPr>
                  <p:cNvPr id="860" name=""/>
                  <p:cNvSpPr/>
                  <p:nvPr/>
                </p:nvSpPr>
                <p:spPr>
                  <a:xfrm>
                    <a:off x="6523920" y="3654360"/>
                    <a:ext cx="217476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98,8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6467400" y="3654360"/>
                    <a:ext cx="22878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2" name=""/>
              <p:cNvGrpSpPr/>
              <p:nvPr/>
            </p:nvGrpSpPr>
            <p:grpSpPr>
              <a:xfrm>
                <a:off x="920160" y="4149720"/>
                <a:ext cx="1199160" cy="495000"/>
                <a:chOff x="920160" y="4149720"/>
                <a:chExt cx="1199160" cy="49500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920160" y="4149720"/>
                  <a:ext cx="11991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4" name=""/>
                <p:cNvGrpSpPr/>
                <p:nvPr/>
              </p:nvGrpSpPr>
              <p:grpSpPr>
                <a:xfrm>
                  <a:off x="920160" y="4149720"/>
                  <a:ext cx="1198800" cy="495000"/>
                  <a:chOff x="920160" y="4149720"/>
                  <a:chExt cx="1198800" cy="49500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976320" y="4149720"/>
                    <a:ext cx="108612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2001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920160" y="4149720"/>
                    <a:ext cx="11988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2119680" y="4149720"/>
                <a:ext cx="1827720" cy="495000"/>
                <a:chOff x="2119680" y="4149720"/>
                <a:chExt cx="1827720" cy="4950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2119680" y="4149720"/>
                  <a:ext cx="182772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9" name=""/>
                <p:cNvGrpSpPr/>
                <p:nvPr/>
              </p:nvGrpSpPr>
              <p:grpSpPr>
                <a:xfrm>
                  <a:off x="2119680" y="4149720"/>
                  <a:ext cx="1827360" cy="495000"/>
                  <a:chOff x="2119680" y="4149720"/>
                  <a:chExt cx="1827360" cy="49500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2176200" y="4149720"/>
                    <a:ext cx="171432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12,248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2119680" y="4149720"/>
                    <a:ext cx="182736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72" name=""/>
              <p:cNvGrpSpPr/>
              <p:nvPr/>
            </p:nvGrpSpPr>
            <p:grpSpPr>
              <a:xfrm>
                <a:off x="3948120" y="4149720"/>
                <a:ext cx="2518560" cy="495000"/>
                <a:chOff x="3948120" y="4149720"/>
                <a:chExt cx="2518560" cy="49500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3948120" y="4149720"/>
                  <a:ext cx="25185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4" name=""/>
                <p:cNvGrpSpPr/>
                <p:nvPr/>
              </p:nvGrpSpPr>
              <p:grpSpPr>
                <a:xfrm>
                  <a:off x="3948120" y="4149720"/>
                  <a:ext cx="2518200" cy="495000"/>
                  <a:chOff x="3948120" y="4149720"/>
                  <a:chExt cx="2518200" cy="49500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>
                    <a:off x="4004640" y="4149720"/>
                    <a:ext cx="240516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12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3948120" y="4149720"/>
                    <a:ext cx="25182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77" name=""/>
              <p:cNvGrpSpPr/>
              <p:nvPr/>
            </p:nvGrpSpPr>
            <p:grpSpPr>
              <a:xfrm>
                <a:off x="6467400" y="4149720"/>
                <a:ext cx="2288160" cy="495000"/>
                <a:chOff x="6467400" y="4149720"/>
                <a:chExt cx="2288160" cy="49500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467400" y="4149720"/>
                  <a:ext cx="22881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9" name=""/>
                <p:cNvGrpSpPr/>
                <p:nvPr/>
              </p:nvGrpSpPr>
              <p:grpSpPr>
                <a:xfrm>
                  <a:off x="6467400" y="4149720"/>
                  <a:ext cx="2287800" cy="495000"/>
                  <a:chOff x="6467400" y="4149720"/>
                  <a:chExt cx="2287800" cy="495000"/>
                </a:xfrm>
              </p:grpSpPr>
              <p:sp>
                <p:nvSpPr>
                  <p:cNvPr id="880" name=""/>
                  <p:cNvSpPr/>
                  <p:nvPr/>
                </p:nvSpPr>
                <p:spPr>
                  <a:xfrm>
                    <a:off x="6523920" y="4149720"/>
                    <a:ext cx="217476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97,9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6467400" y="4149720"/>
                    <a:ext cx="22878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2" name=""/>
              <p:cNvGrpSpPr/>
              <p:nvPr/>
            </p:nvGrpSpPr>
            <p:grpSpPr>
              <a:xfrm>
                <a:off x="920160" y="4644720"/>
                <a:ext cx="1199160" cy="495000"/>
                <a:chOff x="920160" y="4644720"/>
                <a:chExt cx="1199160" cy="49500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920160" y="4644720"/>
                  <a:ext cx="11991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4" name=""/>
                <p:cNvGrpSpPr/>
                <p:nvPr/>
              </p:nvGrpSpPr>
              <p:grpSpPr>
                <a:xfrm>
                  <a:off x="920160" y="4644720"/>
                  <a:ext cx="1198800" cy="495000"/>
                  <a:chOff x="920160" y="4644720"/>
                  <a:chExt cx="1198800" cy="49500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>
                    <a:off x="976320" y="4644720"/>
                    <a:ext cx="108612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2002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920160" y="4644720"/>
                    <a:ext cx="11988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7" name=""/>
              <p:cNvGrpSpPr/>
              <p:nvPr/>
            </p:nvGrpSpPr>
            <p:grpSpPr>
              <a:xfrm>
                <a:off x="2119680" y="4644720"/>
                <a:ext cx="1827720" cy="495000"/>
                <a:chOff x="2119680" y="4644720"/>
                <a:chExt cx="1827720" cy="495000"/>
              </a:xfrm>
            </p:grpSpPr>
            <p:sp>
              <p:nvSpPr>
                <p:cNvPr id="888" name=""/>
                <p:cNvSpPr/>
                <p:nvPr/>
              </p:nvSpPr>
              <p:spPr>
                <a:xfrm>
                  <a:off x="2119680" y="4644720"/>
                  <a:ext cx="182772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9" name=""/>
                <p:cNvGrpSpPr/>
                <p:nvPr/>
              </p:nvGrpSpPr>
              <p:grpSpPr>
                <a:xfrm>
                  <a:off x="2119680" y="4644720"/>
                  <a:ext cx="1827360" cy="495000"/>
                  <a:chOff x="2119680" y="4644720"/>
                  <a:chExt cx="1827360" cy="49500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>
                    <a:off x="2176200" y="4644720"/>
                    <a:ext cx="171432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12,632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2119680" y="4644720"/>
                    <a:ext cx="182736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92" name=""/>
              <p:cNvGrpSpPr/>
              <p:nvPr/>
            </p:nvGrpSpPr>
            <p:grpSpPr>
              <a:xfrm>
                <a:off x="3948120" y="4644720"/>
                <a:ext cx="2518560" cy="495000"/>
                <a:chOff x="3948120" y="4644720"/>
                <a:chExt cx="2518560" cy="49500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3948120" y="4644720"/>
                  <a:ext cx="25185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4" name=""/>
                <p:cNvGrpSpPr/>
                <p:nvPr/>
              </p:nvGrpSpPr>
              <p:grpSpPr>
                <a:xfrm>
                  <a:off x="3948120" y="4644720"/>
                  <a:ext cx="2518200" cy="495000"/>
                  <a:chOff x="3948120" y="4644720"/>
                  <a:chExt cx="2518200" cy="495000"/>
                </a:xfrm>
              </p:grpSpPr>
              <p:sp>
                <p:nvSpPr>
                  <p:cNvPr id="895" name=""/>
                  <p:cNvSpPr/>
                  <p:nvPr/>
                </p:nvSpPr>
                <p:spPr>
                  <a:xfrm>
                    <a:off x="4004640" y="4644720"/>
                    <a:ext cx="240516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04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3948120" y="4644720"/>
                    <a:ext cx="25182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97" name=""/>
              <p:cNvGrpSpPr/>
              <p:nvPr/>
            </p:nvGrpSpPr>
            <p:grpSpPr>
              <a:xfrm>
                <a:off x="6467400" y="4644720"/>
                <a:ext cx="2288160" cy="495000"/>
                <a:chOff x="6467400" y="4644720"/>
                <a:chExt cx="2288160" cy="49500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6467400" y="4644720"/>
                  <a:ext cx="22881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9" name=""/>
                <p:cNvGrpSpPr/>
                <p:nvPr/>
              </p:nvGrpSpPr>
              <p:grpSpPr>
                <a:xfrm>
                  <a:off x="6467400" y="4644720"/>
                  <a:ext cx="2287800" cy="495000"/>
                  <a:chOff x="6467400" y="4644720"/>
                  <a:chExt cx="2287800" cy="49500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6523920" y="4644720"/>
                    <a:ext cx="217476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31,7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6467400" y="4644720"/>
                    <a:ext cx="22878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02" name=""/>
              <p:cNvGrpSpPr/>
              <p:nvPr/>
            </p:nvGrpSpPr>
            <p:grpSpPr>
              <a:xfrm>
                <a:off x="920160" y="5140080"/>
                <a:ext cx="1199160" cy="495000"/>
                <a:chOff x="920160" y="5140080"/>
                <a:chExt cx="1199160" cy="49500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920160" y="5140080"/>
                  <a:ext cx="11991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4" name=""/>
                <p:cNvGrpSpPr/>
                <p:nvPr/>
              </p:nvGrpSpPr>
              <p:grpSpPr>
                <a:xfrm>
                  <a:off x="920160" y="5140080"/>
                  <a:ext cx="1198800" cy="495000"/>
                  <a:chOff x="920160" y="5140080"/>
                  <a:chExt cx="1198800" cy="49500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>
                    <a:off x="976320" y="5140080"/>
                    <a:ext cx="108612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2003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920160" y="5140080"/>
                    <a:ext cx="11988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07" name=""/>
              <p:cNvGrpSpPr/>
              <p:nvPr/>
            </p:nvGrpSpPr>
            <p:grpSpPr>
              <a:xfrm>
                <a:off x="2119680" y="5140080"/>
                <a:ext cx="1827720" cy="495000"/>
                <a:chOff x="2119680" y="5140080"/>
                <a:chExt cx="1827720" cy="49500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2119680" y="5140080"/>
                  <a:ext cx="182772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9" name=""/>
                <p:cNvGrpSpPr/>
                <p:nvPr/>
              </p:nvGrpSpPr>
              <p:grpSpPr>
                <a:xfrm>
                  <a:off x="2119680" y="5140080"/>
                  <a:ext cx="1827360" cy="495000"/>
                  <a:chOff x="2119680" y="5140080"/>
                  <a:chExt cx="1827360" cy="49500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>
                    <a:off x="2176200" y="5140080"/>
                    <a:ext cx="171432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13,550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2119680" y="5140080"/>
                    <a:ext cx="182736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12" name=""/>
              <p:cNvGrpSpPr/>
              <p:nvPr/>
            </p:nvGrpSpPr>
            <p:grpSpPr>
              <a:xfrm>
                <a:off x="3948120" y="5140080"/>
                <a:ext cx="2518560" cy="495000"/>
                <a:chOff x="3948120" y="5140080"/>
                <a:chExt cx="2518560" cy="49500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3948120" y="5140080"/>
                  <a:ext cx="25185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4" name=""/>
                <p:cNvGrpSpPr/>
                <p:nvPr/>
              </p:nvGrpSpPr>
              <p:grpSpPr>
                <a:xfrm>
                  <a:off x="3948120" y="5140080"/>
                  <a:ext cx="2518200" cy="495000"/>
                  <a:chOff x="3948120" y="5140080"/>
                  <a:chExt cx="2518200" cy="49500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>
                    <a:off x="4004640" y="5140080"/>
                    <a:ext cx="240516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16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3948120" y="5140080"/>
                    <a:ext cx="25182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17" name=""/>
              <p:cNvGrpSpPr/>
              <p:nvPr/>
            </p:nvGrpSpPr>
            <p:grpSpPr>
              <a:xfrm>
                <a:off x="6467400" y="5140080"/>
                <a:ext cx="2288160" cy="495000"/>
                <a:chOff x="6467400" y="5140080"/>
                <a:chExt cx="2288160" cy="49500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6467400" y="5140080"/>
                  <a:ext cx="22881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9" name=""/>
                <p:cNvGrpSpPr/>
                <p:nvPr/>
              </p:nvGrpSpPr>
              <p:grpSpPr>
                <a:xfrm>
                  <a:off x="6467400" y="5140080"/>
                  <a:ext cx="2287800" cy="495000"/>
                  <a:chOff x="6467400" y="5140080"/>
                  <a:chExt cx="2287800" cy="495000"/>
                </a:xfrm>
              </p:grpSpPr>
              <p:sp>
                <p:nvSpPr>
                  <p:cNvPr id="920" name=""/>
                  <p:cNvSpPr/>
                  <p:nvPr/>
                </p:nvSpPr>
                <p:spPr>
                  <a:xfrm>
                    <a:off x="6523920" y="5140080"/>
                    <a:ext cx="217476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118,08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6467400" y="5140080"/>
                    <a:ext cx="22878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2" name=""/>
              <p:cNvGrpSpPr/>
              <p:nvPr/>
            </p:nvGrpSpPr>
            <p:grpSpPr>
              <a:xfrm>
                <a:off x="920160" y="5635080"/>
                <a:ext cx="1199160" cy="495000"/>
                <a:chOff x="920160" y="5635080"/>
                <a:chExt cx="1199160" cy="49500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920160" y="5635080"/>
                  <a:ext cx="11991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4" name=""/>
                <p:cNvGrpSpPr/>
                <p:nvPr/>
              </p:nvGrpSpPr>
              <p:grpSpPr>
                <a:xfrm>
                  <a:off x="920160" y="5635080"/>
                  <a:ext cx="1198800" cy="495000"/>
                  <a:chOff x="920160" y="5635080"/>
                  <a:chExt cx="1198800" cy="495000"/>
                </a:xfrm>
              </p:grpSpPr>
              <p:sp>
                <p:nvSpPr>
                  <p:cNvPr id="925" name=""/>
                  <p:cNvSpPr/>
                  <p:nvPr/>
                </p:nvSpPr>
                <p:spPr>
                  <a:xfrm>
                    <a:off x="976320" y="5635080"/>
                    <a:ext cx="108612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2004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920160" y="5635080"/>
                    <a:ext cx="11988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7" name=""/>
              <p:cNvGrpSpPr/>
              <p:nvPr/>
            </p:nvGrpSpPr>
            <p:grpSpPr>
              <a:xfrm>
                <a:off x="2119680" y="5635080"/>
                <a:ext cx="1827720" cy="495000"/>
                <a:chOff x="2119680" y="5635080"/>
                <a:chExt cx="1827720" cy="49500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2119680" y="5635080"/>
                  <a:ext cx="182772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9" name=""/>
                <p:cNvGrpSpPr/>
                <p:nvPr/>
              </p:nvGrpSpPr>
              <p:grpSpPr>
                <a:xfrm>
                  <a:off x="2119680" y="5635080"/>
                  <a:ext cx="1827360" cy="495000"/>
                  <a:chOff x="2119680" y="5635080"/>
                  <a:chExt cx="1827360" cy="49500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>
                    <a:off x="2176200" y="5635080"/>
                    <a:ext cx="171432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14,453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119680" y="5635080"/>
                    <a:ext cx="182736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32" name=""/>
              <p:cNvGrpSpPr/>
              <p:nvPr/>
            </p:nvGrpSpPr>
            <p:grpSpPr>
              <a:xfrm>
                <a:off x="3948120" y="5635080"/>
                <a:ext cx="2518560" cy="495000"/>
                <a:chOff x="3948120" y="5635080"/>
                <a:chExt cx="2518560" cy="49500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3948120" y="5635080"/>
                  <a:ext cx="25185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4" name=""/>
                <p:cNvGrpSpPr/>
                <p:nvPr/>
              </p:nvGrpSpPr>
              <p:grpSpPr>
                <a:xfrm>
                  <a:off x="3948120" y="5635080"/>
                  <a:ext cx="2518200" cy="495000"/>
                  <a:chOff x="3948120" y="5635080"/>
                  <a:chExt cx="2518200" cy="495000"/>
                </a:xfrm>
              </p:grpSpPr>
              <p:sp>
                <p:nvSpPr>
                  <p:cNvPr id="935" name=""/>
                  <p:cNvSpPr/>
                  <p:nvPr/>
                </p:nvSpPr>
                <p:spPr>
                  <a:xfrm>
                    <a:off x="4004640" y="5635080"/>
                    <a:ext cx="240516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14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3948120" y="5635080"/>
                    <a:ext cx="25182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37" name=""/>
              <p:cNvGrpSpPr/>
              <p:nvPr/>
            </p:nvGrpSpPr>
            <p:grpSpPr>
              <a:xfrm>
                <a:off x="6467400" y="5635080"/>
                <a:ext cx="2288160" cy="495000"/>
                <a:chOff x="6467400" y="5635080"/>
                <a:chExt cx="2288160" cy="49500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6467400" y="5635080"/>
                  <a:ext cx="22881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9" name=""/>
                <p:cNvGrpSpPr/>
                <p:nvPr/>
              </p:nvGrpSpPr>
              <p:grpSpPr>
                <a:xfrm>
                  <a:off x="6467400" y="5635080"/>
                  <a:ext cx="2287800" cy="495000"/>
                  <a:chOff x="6467400" y="5635080"/>
                  <a:chExt cx="2287800" cy="495000"/>
                </a:xfrm>
              </p:grpSpPr>
              <p:sp>
                <p:nvSpPr>
                  <p:cNvPr id="940" name=""/>
                  <p:cNvSpPr/>
                  <p:nvPr/>
                </p:nvSpPr>
                <p:spPr>
                  <a:xfrm>
                    <a:off x="6523920" y="5635080"/>
                    <a:ext cx="2174760" cy="49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96.9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6467400" y="5635080"/>
                    <a:ext cx="2287800" cy="495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920160" y="6130440"/>
                <a:ext cx="1199160" cy="495360"/>
                <a:chOff x="920160" y="6130440"/>
                <a:chExt cx="1199160" cy="49536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920160" y="6130440"/>
                  <a:ext cx="1199160" cy="4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4" name=""/>
                <p:cNvGrpSpPr/>
                <p:nvPr/>
              </p:nvGrpSpPr>
              <p:grpSpPr>
                <a:xfrm>
                  <a:off x="920160" y="6130440"/>
                  <a:ext cx="1198800" cy="495360"/>
                  <a:chOff x="920160" y="6130440"/>
                  <a:chExt cx="1198800" cy="49536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>
                    <a:off x="976320" y="6130440"/>
                    <a:ext cx="1086120" cy="49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2005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920160" y="6130440"/>
                    <a:ext cx="1198800" cy="4953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7" name=""/>
              <p:cNvGrpSpPr/>
              <p:nvPr/>
            </p:nvGrpSpPr>
            <p:grpSpPr>
              <a:xfrm>
                <a:off x="2119680" y="6130440"/>
                <a:ext cx="1827720" cy="495360"/>
                <a:chOff x="2119680" y="6130440"/>
                <a:chExt cx="1827720" cy="49536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2119680" y="6130440"/>
                  <a:ext cx="1827720" cy="4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9" name=""/>
                <p:cNvGrpSpPr/>
                <p:nvPr/>
              </p:nvGrpSpPr>
              <p:grpSpPr>
                <a:xfrm>
                  <a:off x="2119680" y="6130440"/>
                  <a:ext cx="1827360" cy="495360"/>
                  <a:chOff x="2119680" y="6130440"/>
                  <a:chExt cx="1827360" cy="495360"/>
                </a:xfrm>
              </p:grpSpPr>
              <p:sp>
                <p:nvSpPr>
                  <p:cNvPr id="950" name=""/>
                  <p:cNvSpPr/>
                  <p:nvPr/>
                </p:nvSpPr>
                <p:spPr>
                  <a:xfrm>
                    <a:off x="2176200" y="6130440"/>
                    <a:ext cx="1714320" cy="49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15,132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2119680" y="6130440"/>
                    <a:ext cx="1827360" cy="4953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2" name=""/>
              <p:cNvGrpSpPr/>
              <p:nvPr/>
            </p:nvGrpSpPr>
            <p:grpSpPr>
              <a:xfrm>
                <a:off x="3948120" y="6130440"/>
                <a:ext cx="2518560" cy="495360"/>
                <a:chOff x="3948120" y="6130440"/>
                <a:chExt cx="2518560" cy="49536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3948120" y="6130440"/>
                  <a:ext cx="2518560" cy="4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4" name=""/>
                <p:cNvGrpSpPr/>
                <p:nvPr/>
              </p:nvGrpSpPr>
              <p:grpSpPr>
                <a:xfrm>
                  <a:off x="3948120" y="6130440"/>
                  <a:ext cx="2518200" cy="495360"/>
                  <a:chOff x="3948120" y="6130440"/>
                  <a:chExt cx="2518200" cy="495360"/>
                </a:xfrm>
              </p:grpSpPr>
              <p:sp>
                <p:nvSpPr>
                  <p:cNvPr id="955" name=""/>
                  <p:cNvSpPr/>
                  <p:nvPr/>
                </p:nvSpPr>
                <p:spPr>
                  <a:xfrm>
                    <a:off x="4004640" y="6130440"/>
                    <a:ext cx="2405160" cy="49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3948120" y="6130440"/>
                    <a:ext cx="2518200" cy="4953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7" name=""/>
              <p:cNvGrpSpPr/>
              <p:nvPr/>
            </p:nvGrpSpPr>
            <p:grpSpPr>
              <a:xfrm>
                <a:off x="6467400" y="6130440"/>
                <a:ext cx="2288160" cy="495360"/>
                <a:chOff x="6467400" y="6130440"/>
                <a:chExt cx="2288160" cy="4953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6467400" y="6130440"/>
                  <a:ext cx="2288160" cy="4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9" name=""/>
                <p:cNvGrpSpPr/>
                <p:nvPr/>
              </p:nvGrpSpPr>
              <p:grpSpPr>
                <a:xfrm>
                  <a:off x="6467400" y="6130440"/>
                  <a:ext cx="2287800" cy="495360"/>
                  <a:chOff x="6467400" y="6130440"/>
                  <a:chExt cx="2287800" cy="495360"/>
                </a:xfrm>
              </p:grpSpPr>
              <p:sp>
                <p:nvSpPr>
                  <p:cNvPr id="960" name=""/>
                  <p:cNvSpPr/>
                  <p:nvPr/>
                </p:nvSpPr>
                <p:spPr>
                  <a:xfrm>
                    <a:off x="6523920" y="6130440"/>
                    <a:ext cx="2174760" cy="49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66.1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6467400" y="6130440"/>
                    <a:ext cx="2287800" cy="4953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962" name=""/>
            <p:cNvSpPr/>
            <p:nvPr/>
          </p:nvSpPr>
          <p:spPr>
            <a:xfrm>
              <a:off x="914400" y="1600200"/>
              <a:ext cx="7848360" cy="50292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3240" y="6357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28480" y="19051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MS Sans Serif"/>
              </a:rPr>
              <a:t>DEFUNCIONES M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597720" y="1905120"/>
            <a:ext cx="20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MS Sans Serif"/>
                <a:ea typeface="Arial"/>
              </a:rPr>
              <a:t>TASA X100,000 N.V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72520" y="1905120"/>
            <a:ext cx="17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MS Sans Serif"/>
                <a:ea typeface="Arial"/>
              </a:rPr>
              <a:t>NACIDOS</a:t>
            </a:r>
            <a:r>
              <a:rPr b="1" lang="es-ES_tradnl" sz="1200" spc="-1" strike="noStrike">
                <a:solidFill>
                  <a:srgbClr val="ffff99"/>
                </a:solidFill>
                <a:latin typeface="MS Sans Serif"/>
                <a:ea typeface="Arial"/>
              </a:rPr>
              <a:t> </a:t>
            </a:r>
            <a:r>
              <a:rPr b="1" lang="es-ES_tradnl" sz="1600" spc="-1" strike="noStrike">
                <a:solidFill>
                  <a:srgbClr val="ffff99"/>
                </a:solidFill>
                <a:latin typeface="MS Sans Serif"/>
                <a:ea typeface="Arial"/>
              </a:rPr>
              <a:t>VIVO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59120" y="190512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MS Sans Serif"/>
                <a:ea typeface="Arial"/>
              </a:rPr>
              <a:t>AÑ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66"/>
                </a:solidFill>
                <a:latin typeface="Arial"/>
                <a:ea typeface="Arial"/>
              </a:rPr>
              <a:t>MUERTES MATERNAS  PERIODO 1998 – 2005  AREQUIP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9" name=""/>
          <p:cNvGraphicFramePr/>
          <p:nvPr/>
        </p:nvGraphicFramePr>
        <p:xfrm>
          <a:off x="539640" y="1700280"/>
          <a:ext cx="8528040" cy="450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00280"/>
                    <a:ext cx="852804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1" name=""/>
          <p:cNvSpPr/>
          <p:nvPr/>
        </p:nvSpPr>
        <p:spPr>
          <a:xfrm>
            <a:off x="5400720" y="609300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RAZON DE MORTALIDAD X 100000 N V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1258920" y="1484280"/>
            <a:ext cx="71280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66"/>
                </a:solidFill>
                <a:latin typeface="Bodoni MT Black"/>
              </a:rPr>
              <a:t>El verdadero poder consiste en saber que sí se puede, pero no se quiere.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66"/>
                </a:solidFill>
                <a:latin typeface="Bodoni MT Black"/>
              </a:rPr>
              <a:t>JULIET ALICIA JARVIS</a:t>
            </a:r>
            <a:r>
              <a:rPr b="0" lang="es-ES" sz="2600" spc="-1" strike="noStrike">
                <a:solidFill>
                  <a:srgbClr val="ffff66"/>
                </a:solidFill>
                <a:latin typeface="Bodoni MT Black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3635280" y="4149720"/>
            <a:ext cx="3097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GRACIA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RELACION DEL CONTROL PRENATAL Y LA MORTALIDAD MATERNA</a:t>
            </a: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66680" y="2971800"/>
            <a:ext cx="7897680" cy="3505320"/>
            <a:chOff x="1066680" y="2971800"/>
            <a:chExt cx="7897680" cy="3505320"/>
          </a:xfrm>
        </p:grpSpPr>
        <p:grpSp>
          <p:nvGrpSpPr>
            <p:cNvPr id="115" name=""/>
            <p:cNvGrpSpPr/>
            <p:nvPr/>
          </p:nvGrpSpPr>
          <p:grpSpPr>
            <a:xfrm>
              <a:off x="1073160" y="2975400"/>
              <a:ext cx="7882920" cy="3497040"/>
              <a:chOff x="1073160" y="2975400"/>
              <a:chExt cx="7882920" cy="349704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1073160" y="2975400"/>
                <a:ext cx="2416320" cy="588600"/>
                <a:chOff x="1073160" y="2975400"/>
                <a:chExt cx="2416320" cy="5886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135440" y="2975400"/>
                  <a:ext cx="229104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</a:rPr>
                    <a:t>CON CPN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073160" y="2975400"/>
                  <a:ext cx="2416320" cy="588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489840" y="2975400"/>
                <a:ext cx="2414160" cy="588600"/>
                <a:chOff x="3489840" y="2975400"/>
                <a:chExt cx="2414160" cy="5886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552840" y="2975400"/>
                  <a:ext cx="228852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SIN CPN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489840" y="2975400"/>
                  <a:ext cx="2414160" cy="588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904720" y="2975400"/>
                <a:ext cx="3051360" cy="588600"/>
                <a:chOff x="5904720" y="2975400"/>
                <a:chExt cx="3051360" cy="5886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967720" y="2975400"/>
                  <a:ext cx="292572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904720" y="2975400"/>
                  <a:ext cx="3051360" cy="588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073160" y="3564000"/>
                <a:ext cx="2416320" cy="726840"/>
                <a:chOff x="1073160" y="3564000"/>
                <a:chExt cx="2416320" cy="7268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135440" y="3564000"/>
                  <a:ext cx="2291040" cy="72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2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(52.2)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073160" y="3564000"/>
                  <a:ext cx="2416320" cy="72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489840" y="3564000"/>
                <a:ext cx="2414160" cy="726840"/>
                <a:chOff x="3489840" y="3564000"/>
                <a:chExt cx="2414160" cy="7268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552840" y="3564000"/>
                  <a:ext cx="2288520" cy="72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(21.8)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489840" y="3564000"/>
                  <a:ext cx="2414160" cy="72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904720" y="3564000"/>
                <a:ext cx="3051360" cy="726840"/>
                <a:chOff x="5904720" y="3564000"/>
                <a:chExt cx="3051360" cy="726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967720" y="3564000"/>
                  <a:ext cx="2925720" cy="72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Muerte en Establecimiento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904720" y="3564000"/>
                  <a:ext cx="3051360" cy="72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073160" y="4291200"/>
                <a:ext cx="2416320" cy="726840"/>
                <a:chOff x="1073160" y="4291200"/>
                <a:chExt cx="2416320" cy="7268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135440" y="4291200"/>
                  <a:ext cx="2291040" cy="72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3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(13.1)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073160" y="4291200"/>
                  <a:ext cx="2416320" cy="72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489840" y="4291200"/>
                <a:ext cx="2414160" cy="726840"/>
                <a:chOff x="3489840" y="4291200"/>
                <a:chExt cx="2414160" cy="7268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552840" y="4291200"/>
                  <a:ext cx="2288520" cy="72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(4.3)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489840" y="4291200"/>
                  <a:ext cx="2414160" cy="72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04720" y="4291200"/>
                <a:ext cx="3051360" cy="726840"/>
                <a:chOff x="5904720" y="4291200"/>
                <a:chExt cx="3051360" cy="7268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67720" y="4291200"/>
                  <a:ext cx="2925720" cy="72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Muerte en Domicilio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04720" y="4291200"/>
                  <a:ext cx="3051360" cy="72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1073160" y="5018040"/>
                <a:ext cx="2416320" cy="726840"/>
                <a:chOff x="1073160" y="5018040"/>
                <a:chExt cx="2416320" cy="7268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135440" y="5018040"/>
                  <a:ext cx="2291040" cy="72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(4.3)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73160" y="5018040"/>
                  <a:ext cx="2416320" cy="72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489840" y="5018040"/>
                <a:ext cx="2414160" cy="726840"/>
                <a:chOff x="3489840" y="5018040"/>
                <a:chExt cx="2414160" cy="7268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552840" y="5018040"/>
                  <a:ext cx="2288520" cy="72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489840" y="5018040"/>
                  <a:ext cx="2414160" cy="72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904720" y="5018040"/>
                <a:ext cx="3051360" cy="726840"/>
                <a:chOff x="5904720" y="5018040"/>
                <a:chExt cx="3051360" cy="7268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967720" y="5018040"/>
                  <a:ext cx="2925720" cy="72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8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Muerte en Establecimiento Público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904720" y="5018040"/>
                  <a:ext cx="3051360" cy="72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073160" y="5745240"/>
                <a:ext cx="2416320" cy="727200"/>
                <a:chOff x="1073160" y="5745240"/>
                <a:chExt cx="2416320" cy="7272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135440" y="5745240"/>
                  <a:ext cx="229104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(4.3)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073160" y="5745240"/>
                  <a:ext cx="2416320" cy="727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489840" y="5745240"/>
                <a:ext cx="2414160" cy="727200"/>
                <a:chOff x="3489840" y="5745240"/>
                <a:chExt cx="2414160" cy="7272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552840" y="5745240"/>
                  <a:ext cx="228852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489840" y="5745240"/>
                  <a:ext cx="2414160" cy="727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904720" y="5745240"/>
                <a:ext cx="3051360" cy="727200"/>
                <a:chOff x="5904720" y="5745240"/>
                <a:chExt cx="3051360" cy="7272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967720" y="5745240"/>
                  <a:ext cx="292572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</a:rPr>
                    <a:t>Muerte 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en la Carretera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904720" y="5745240"/>
                  <a:ext cx="3051360" cy="727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" name=""/>
            <p:cNvSpPr/>
            <p:nvPr/>
          </p:nvSpPr>
          <p:spPr>
            <a:xfrm>
              <a:off x="1066680" y="2971800"/>
              <a:ext cx="7897680" cy="350532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523880" y="1523880"/>
            <a:ext cx="6781680" cy="1336680"/>
            <a:chOff x="1523880" y="1523880"/>
            <a:chExt cx="6781680" cy="1336680"/>
          </a:xfrm>
        </p:grpSpPr>
        <p:grpSp>
          <p:nvGrpSpPr>
            <p:cNvPr id="163" name=""/>
            <p:cNvGrpSpPr/>
            <p:nvPr/>
          </p:nvGrpSpPr>
          <p:grpSpPr>
            <a:xfrm>
              <a:off x="1532160" y="1528200"/>
              <a:ext cx="6764040" cy="1327680"/>
              <a:chOff x="1532160" y="1528200"/>
              <a:chExt cx="6764040" cy="132768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1532160" y="1528200"/>
                <a:ext cx="4510080" cy="663840"/>
                <a:chOff x="1532160" y="1528200"/>
                <a:chExt cx="4510080" cy="6638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611360" y="1528200"/>
                  <a:ext cx="4351320" cy="66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2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% de Muertes con CPN 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532160" y="1528200"/>
                  <a:ext cx="4510080" cy="663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042600" y="1528200"/>
                <a:ext cx="2253600" cy="663840"/>
                <a:chOff x="6042600" y="1528200"/>
                <a:chExt cx="2253600" cy="6638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122160" y="1528200"/>
                  <a:ext cx="2094480" cy="66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2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7 </a:t>
                  </a:r>
                  <a:r>
                    <a:rPr b="1" lang="es-PE" sz="2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(73.9)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042600" y="1528200"/>
                  <a:ext cx="2253600" cy="663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1532160" y="2192040"/>
                <a:ext cx="4510080" cy="663840"/>
                <a:chOff x="1532160" y="2192040"/>
                <a:chExt cx="4510080" cy="6638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611360" y="2192040"/>
                  <a:ext cx="4351320" cy="66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2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% de Muertes sin CPN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532160" y="2192040"/>
                  <a:ext cx="4510080" cy="663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6042600" y="2192040"/>
                <a:ext cx="2253600" cy="663840"/>
                <a:chOff x="6042600" y="2192040"/>
                <a:chExt cx="2253600" cy="6638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122160" y="2192040"/>
                  <a:ext cx="2094480" cy="66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E" sz="2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6 </a:t>
                  </a:r>
                  <a:r>
                    <a:rPr b="1" lang="es-PE" sz="2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(26.1)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042600" y="2192040"/>
                  <a:ext cx="2253600" cy="663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1523880" y="1523880"/>
              <a:ext cx="6781680" cy="133668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66"/>
                </a:solidFill>
                <a:latin typeface="Tahoma"/>
                <a:ea typeface="Times New Roman"/>
              </a:rPr>
              <a:t>RELACION DEL CONTROL PRENATAL Y LA MORTALIDAD MATER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5 Gráfico" descr=""/>
          <p:cNvPicPr/>
          <p:nvPr/>
        </p:nvPicPr>
        <p:blipFill>
          <a:blip r:embed="rId1"/>
          <a:stretch/>
        </p:blipFill>
        <p:spPr>
          <a:xfrm>
            <a:off x="684360" y="1347840"/>
            <a:ext cx="8208720" cy="5510160"/>
          </a:xfrm>
          <a:prstGeom prst="rect">
            <a:avLst/>
          </a:prstGeom>
          <a:ln w="0">
            <a:noFill/>
          </a:ln>
        </p:spPr>
      </p:pic>
      <p:pic>
        <p:nvPicPr>
          <p:cNvPr id="179" name="10 Gráfico" descr=""/>
          <p:cNvPicPr/>
          <p:nvPr/>
        </p:nvPicPr>
        <p:blipFill>
          <a:blip r:embed="rId2"/>
          <a:stretch/>
        </p:blipFill>
        <p:spPr>
          <a:xfrm>
            <a:off x="4284720" y="1484280"/>
            <a:ext cx="408312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873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RELACIÓN POR TIPO DE MUE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16765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66680" y="3124080"/>
            <a:ext cx="7772040" cy="3429000"/>
            <a:chOff x="1066680" y="3124080"/>
            <a:chExt cx="7772040" cy="3429000"/>
          </a:xfrm>
        </p:grpSpPr>
        <p:grpSp>
          <p:nvGrpSpPr>
            <p:cNvPr id="183" name=""/>
            <p:cNvGrpSpPr/>
            <p:nvPr/>
          </p:nvGrpSpPr>
          <p:grpSpPr>
            <a:xfrm>
              <a:off x="1073160" y="3126600"/>
              <a:ext cx="7758000" cy="3422880"/>
              <a:chOff x="1073160" y="3126600"/>
              <a:chExt cx="7758000" cy="342288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073160" y="3126600"/>
                <a:ext cx="2377800" cy="419400"/>
                <a:chOff x="1073160" y="3126600"/>
                <a:chExt cx="2377800" cy="4194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134720" y="3126600"/>
                  <a:ext cx="225468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</a:rPr>
                    <a:t>EVITABLE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073160" y="3126600"/>
                  <a:ext cx="2377800" cy="419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451320" y="3126600"/>
                <a:ext cx="2376000" cy="419400"/>
                <a:chOff x="3451320" y="3126600"/>
                <a:chExt cx="2376000" cy="4194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513240" y="3126600"/>
                  <a:ext cx="225252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INEVITABLE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451320" y="3126600"/>
                  <a:ext cx="2376000" cy="419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828040" y="3126600"/>
                <a:ext cx="3003120" cy="419400"/>
                <a:chOff x="5828040" y="3126600"/>
                <a:chExt cx="3003120" cy="4194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889960" y="3126600"/>
                  <a:ext cx="287928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828040" y="3126600"/>
                  <a:ext cx="3003120" cy="419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073160" y="3546000"/>
                <a:ext cx="2377800" cy="750600"/>
                <a:chOff x="1073160" y="3546000"/>
                <a:chExt cx="2377800" cy="7506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134720" y="3546000"/>
                  <a:ext cx="225468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2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(52.2)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073160" y="3546000"/>
                  <a:ext cx="2377800" cy="750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451320" y="3546000"/>
                <a:ext cx="2376000" cy="750600"/>
                <a:chOff x="3451320" y="3546000"/>
                <a:chExt cx="2376000" cy="7506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513240" y="3546000"/>
                  <a:ext cx="225252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(21.8)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451320" y="3546000"/>
                  <a:ext cx="2376000" cy="750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828040" y="3546000"/>
                <a:ext cx="3003120" cy="750600"/>
                <a:chOff x="5828040" y="3546000"/>
                <a:chExt cx="3003120" cy="75060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889960" y="3546000"/>
                  <a:ext cx="287928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Muerte en Establecimiento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828040" y="3546000"/>
                  <a:ext cx="3003120" cy="750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073160" y="4296960"/>
                <a:ext cx="2377800" cy="750960"/>
                <a:chOff x="1073160" y="4296960"/>
                <a:chExt cx="2377800" cy="7509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134720" y="4296960"/>
                  <a:ext cx="2254680" cy="75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3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(13.1)</a:t>
                  </a:r>
                  <a:r>
                    <a:rPr b="1" lang="es-PE" sz="20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073160" y="4296960"/>
                  <a:ext cx="2377800" cy="750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451320" y="4296960"/>
                <a:ext cx="2376000" cy="750960"/>
                <a:chOff x="3451320" y="4296960"/>
                <a:chExt cx="2376000" cy="7509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513240" y="4296960"/>
                  <a:ext cx="2252520" cy="75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(4.3)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451320" y="4296960"/>
                  <a:ext cx="2376000" cy="750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828040" y="4296960"/>
                <a:ext cx="3003120" cy="750960"/>
                <a:chOff x="5828040" y="4296960"/>
                <a:chExt cx="3003120" cy="7509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889960" y="4296960"/>
                  <a:ext cx="2879280" cy="75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</a:rPr>
                    <a:t>Muerte en Domicilio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828040" y="4296960"/>
                  <a:ext cx="3003120" cy="750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073160" y="5047920"/>
                <a:ext cx="2377800" cy="750960"/>
                <a:chOff x="1073160" y="5047920"/>
                <a:chExt cx="2377800" cy="7509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134720" y="5047920"/>
                  <a:ext cx="2254680" cy="75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073160" y="5047920"/>
                  <a:ext cx="2377800" cy="750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451320" y="5047920"/>
                <a:ext cx="2376000" cy="750960"/>
                <a:chOff x="3451320" y="5047920"/>
                <a:chExt cx="2376000" cy="7509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513240" y="5047920"/>
                  <a:ext cx="2252520" cy="75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(4.3)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451320" y="5047920"/>
                  <a:ext cx="2376000" cy="750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828040" y="5047920"/>
                <a:ext cx="3003120" cy="750960"/>
                <a:chOff x="5828040" y="5047920"/>
                <a:chExt cx="3003120" cy="7509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889960" y="5047920"/>
                  <a:ext cx="2879280" cy="75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18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Muerte en Establecimiento Público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828040" y="5047920"/>
                  <a:ext cx="3003120" cy="750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1073160" y="5798880"/>
                <a:ext cx="2377800" cy="750600"/>
                <a:chOff x="1073160" y="5798880"/>
                <a:chExt cx="2377800" cy="7506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134720" y="5798880"/>
                  <a:ext cx="225468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073160" y="5798880"/>
                  <a:ext cx="2377800" cy="750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451320" y="5798880"/>
                <a:ext cx="2376000" cy="750600"/>
                <a:chOff x="3451320" y="5798880"/>
                <a:chExt cx="2376000" cy="7506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513240" y="5798880"/>
                  <a:ext cx="225252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(4.3)</a:t>
                  </a:r>
                  <a:r>
                    <a:rPr b="1" lang="es-PE" sz="20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451320" y="5798880"/>
                  <a:ext cx="2376000" cy="750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828040" y="5798880"/>
                <a:ext cx="3003120" cy="750600"/>
                <a:chOff x="5828040" y="5798880"/>
                <a:chExt cx="3003120" cy="7506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889960" y="5798880"/>
                  <a:ext cx="287928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Times New Roman"/>
                      <a:ea typeface="Times New Roman"/>
                    </a:rPr>
                    <a:t>Muerte en la Carretera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828040" y="5798880"/>
                  <a:ext cx="3003120" cy="750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9" name=""/>
            <p:cNvSpPr/>
            <p:nvPr/>
          </p:nvSpPr>
          <p:spPr>
            <a:xfrm>
              <a:off x="1066680" y="3124080"/>
              <a:ext cx="7772040" cy="3429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905120" y="1523880"/>
            <a:ext cx="6324120" cy="1412640"/>
            <a:chOff x="1905120" y="1523880"/>
            <a:chExt cx="6324120" cy="1412640"/>
          </a:xfrm>
        </p:grpSpPr>
        <p:grpSp>
          <p:nvGrpSpPr>
            <p:cNvPr id="231" name=""/>
            <p:cNvGrpSpPr/>
            <p:nvPr/>
          </p:nvGrpSpPr>
          <p:grpSpPr>
            <a:xfrm>
              <a:off x="1912680" y="1528560"/>
              <a:ext cx="6307200" cy="1403280"/>
              <a:chOff x="1912680" y="1528560"/>
              <a:chExt cx="6307200" cy="140328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1912680" y="1528560"/>
                <a:ext cx="4505400" cy="701640"/>
                <a:chOff x="1912680" y="1528560"/>
                <a:chExt cx="4505400" cy="7016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986480" y="1528560"/>
                  <a:ext cx="43567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% de Muertes Evitable 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912680" y="1528560"/>
                  <a:ext cx="4505400" cy="701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6418440" y="1528560"/>
                <a:ext cx="1801440" cy="701640"/>
                <a:chOff x="6418440" y="1528560"/>
                <a:chExt cx="1801440" cy="7016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492240" y="1528560"/>
                  <a:ext cx="16534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5 (65.3)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418440" y="1528560"/>
                  <a:ext cx="1801440" cy="701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1912680" y="2230200"/>
                <a:ext cx="4505400" cy="701640"/>
                <a:chOff x="1912680" y="2230200"/>
                <a:chExt cx="4505400" cy="70164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1986480" y="2230200"/>
                  <a:ext cx="43567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% de Muertes Inevitable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912680" y="2230200"/>
                  <a:ext cx="4505400" cy="701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418440" y="2230200"/>
                <a:ext cx="1801440" cy="701640"/>
                <a:chOff x="6418440" y="2230200"/>
                <a:chExt cx="1801440" cy="7016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6492240" y="2230200"/>
                  <a:ext cx="16534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8 (34.7)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418440" y="2230200"/>
                  <a:ext cx="1801440" cy="701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" name=""/>
            <p:cNvSpPr/>
            <p:nvPr/>
          </p:nvSpPr>
          <p:spPr>
            <a:xfrm>
              <a:off x="1905120" y="1523880"/>
              <a:ext cx="6324120" cy="141264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RELACIÓN POR TIPO DE MUE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1 Gráfico" descr=""/>
          <p:cNvPicPr/>
          <p:nvPr/>
        </p:nvPicPr>
        <p:blipFill>
          <a:blip r:embed="rId1"/>
          <a:stretch/>
        </p:blipFill>
        <p:spPr>
          <a:xfrm>
            <a:off x="684360" y="1274760"/>
            <a:ext cx="8459640" cy="5583240"/>
          </a:xfrm>
          <a:prstGeom prst="rect">
            <a:avLst/>
          </a:prstGeom>
          <a:ln w="0">
            <a:noFill/>
          </a:ln>
        </p:spPr>
      </p:pic>
      <p:pic>
        <p:nvPicPr>
          <p:cNvPr id="247" name="2 Gráfico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718080" cy="193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LACIÓN POR CAUSA DE MUE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990720" y="3048120"/>
            <a:ext cx="7924320" cy="3429000"/>
            <a:chOff x="990720" y="3048120"/>
            <a:chExt cx="7924320" cy="3429000"/>
          </a:xfrm>
        </p:grpSpPr>
        <p:grpSp>
          <p:nvGrpSpPr>
            <p:cNvPr id="250" name=""/>
            <p:cNvGrpSpPr/>
            <p:nvPr/>
          </p:nvGrpSpPr>
          <p:grpSpPr>
            <a:xfrm>
              <a:off x="997200" y="3051360"/>
              <a:ext cx="7909560" cy="3421800"/>
              <a:chOff x="997200" y="3051360"/>
              <a:chExt cx="7909560" cy="342180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997200" y="3051360"/>
                <a:ext cx="2424600" cy="520200"/>
                <a:chOff x="997200" y="3051360"/>
                <a:chExt cx="2424600" cy="5202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1059840" y="3051360"/>
                  <a:ext cx="22989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</a:rPr>
                    <a:t>DIRECTA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997200" y="3051360"/>
                  <a:ext cx="2424600" cy="520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422160" y="3051360"/>
                <a:ext cx="2422440" cy="520200"/>
                <a:chOff x="3422160" y="3051360"/>
                <a:chExt cx="2422440" cy="520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485160" y="3051360"/>
                  <a:ext cx="2296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INDIRECTA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422160" y="3051360"/>
                  <a:ext cx="2422440" cy="520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5844960" y="3051360"/>
                <a:ext cx="3061800" cy="520200"/>
                <a:chOff x="5844960" y="3051360"/>
                <a:chExt cx="3061800" cy="5202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907960" y="3051360"/>
                  <a:ext cx="29358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844960" y="3051360"/>
                  <a:ext cx="3061800" cy="520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997200" y="3571560"/>
                <a:ext cx="2424600" cy="642240"/>
                <a:chOff x="997200" y="3571560"/>
                <a:chExt cx="2424600" cy="642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059840" y="3571560"/>
                  <a:ext cx="2298960" cy="64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0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(43.5)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997200" y="3571560"/>
                  <a:ext cx="2424600" cy="64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3422160" y="3571560"/>
                <a:ext cx="2422440" cy="642240"/>
                <a:chOff x="3422160" y="3571560"/>
                <a:chExt cx="2422440" cy="642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3485160" y="3571560"/>
                  <a:ext cx="2296440" cy="64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7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(30. 5)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422160" y="3571560"/>
                  <a:ext cx="2422440" cy="64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844960" y="3571560"/>
                <a:ext cx="3061800" cy="642240"/>
                <a:chOff x="5844960" y="3571560"/>
                <a:chExt cx="3061800" cy="6422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5907960" y="3571560"/>
                  <a:ext cx="2935800" cy="64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Times New Roman"/>
                      <a:ea typeface="Times New Roman"/>
                    </a:rPr>
                    <a:t>Muerte en Establecimiento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844960" y="3571560"/>
                  <a:ext cx="3061800" cy="64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997200" y="4213800"/>
                <a:ext cx="2424600" cy="753120"/>
                <a:chOff x="997200" y="4213800"/>
                <a:chExt cx="2424600" cy="7531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1059840" y="4213800"/>
                  <a:ext cx="2298960" cy="75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4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(17.4)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997200" y="4213800"/>
                  <a:ext cx="2424600" cy="753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3422160" y="4213800"/>
                <a:ext cx="2422440" cy="753120"/>
                <a:chOff x="3422160" y="4213800"/>
                <a:chExt cx="2422440" cy="7531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3485160" y="4213800"/>
                  <a:ext cx="2296440" cy="75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422160" y="4213800"/>
                  <a:ext cx="2422440" cy="753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5844960" y="4213800"/>
                <a:ext cx="3061800" cy="753120"/>
                <a:chOff x="5844960" y="4213800"/>
                <a:chExt cx="3061800" cy="7531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907960" y="4213800"/>
                  <a:ext cx="2935800" cy="75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Times New Roman"/>
                      <a:ea typeface="Times New Roman"/>
                    </a:rPr>
                    <a:t>Muerte en domicilio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844960" y="4213800"/>
                  <a:ext cx="3061800" cy="753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997200" y="4967280"/>
                <a:ext cx="2424600" cy="752760"/>
                <a:chOff x="997200" y="4967280"/>
                <a:chExt cx="2424600" cy="7527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1059840" y="4967280"/>
                  <a:ext cx="229896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997200" y="4967280"/>
                  <a:ext cx="2424600" cy="752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3422160" y="4967280"/>
                <a:ext cx="2422440" cy="752760"/>
                <a:chOff x="3422160" y="4967280"/>
                <a:chExt cx="2422440" cy="7527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485160" y="4967280"/>
                  <a:ext cx="22964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(4.3)</a:t>
                  </a:r>
                  <a:r>
                    <a:rPr b="1" lang="es-PE" sz="20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422160" y="4967280"/>
                  <a:ext cx="2422440" cy="752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5844960" y="4967280"/>
                <a:ext cx="3061800" cy="752760"/>
                <a:chOff x="5844960" y="4967280"/>
                <a:chExt cx="3061800" cy="7527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5907960" y="4967280"/>
                  <a:ext cx="293580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Times New Roman"/>
                      <a:ea typeface="Times New Roman"/>
                    </a:rPr>
                    <a:t>Muerte en Establecimiento Público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844960" y="4967280"/>
                  <a:ext cx="3061800" cy="752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997200" y="5720040"/>
                <a:ext cx="2424600" cy="753120"/>
                <a:chOff x="997200" y="5720040"/>
                <a:chExt cx="2424600" cy="7531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059840" y="5720040"/>
                  <a:ext cx="2298960" cy="75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997200" y="5720040"/>
                  <a:ext cx="2424600" cy="753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422160" y="5720040"/>
                <a:ext cx="2422440" cy="753120"/>
                <a:chOff x="3422160" y="5720040"/>
                <a:chExt cx="2422440" cy="7531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485160" y="5720040"/>
                  <a:ext cx="2296440" cy="75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(4.3)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422160" y="5720040"/>
                  <a:ext cx="2422440" cy="753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844960" y="5720040"/>
                <a:ext cx="3061800" cy="753120"/>
                <a:chOff x="5844960" y="5720040"/>
                <a:chExt cx="3061800" cy="753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907960" y="5720040"/>
                  <a:ext cx="2935800" cy="75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Times New Roman"/>
                      <a:ea typeface="Times New Roman"/>
                    </a:rPr>
                    <a:t>Muerte en la Carretera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844960" y="5720040"/>
                  <a:ext cx="3061800" cy="753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6" name=""/>
            <p:cNvSpPr/>
            <p:nvPr/>
          </p:nvSpPr>
          <p:spPr>
            <a:xfrm>
              <a:off x="990720" y="3048120"/>
              <a:ext cx="7924320" cy="3429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905120" y="1523880"/>
            <a:ext cx="6019200" cy="1412640"/>
            <a:chOff x="1905120" y="1523880"/>
            <a:chExt cx="6019200" cy="1412640"/>
          </a:xfrm>
        </p:grpSpPr>
        <p:grpSp>
          <p:nvGrpSpPr>
            <p:cNvPr id="298" name=""/>
            <p:cNvGrpSpPr/>
            <p:nvPr/>
          </p:nvGrpSpPr>
          <p:grpSpPr>
            <a:xfrm>
              <a:off x="1912320" y="1528560"/>
              <a:ext cx="6003720" cy="1403280"/>
              <a:chOff x="1912320" y="1528560"/>
              <a:chExt cx="6003720" cy="140328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1912320" y="1528560"/>
                <a:ext cx="4003200" cy="701640"/>
                <a:chOff x="1912320" y="1528560"/>
                <a:chExt cx="400320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1982520" y="1528560"/>
                  <a:ext cx="386244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% de Muertes Directa 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912320" y="1528560"/>
                  <a:ext cx="4003200" cy="701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915880" y="1528560"/>
                <a:ext cx="2000160" cy="701640"/>
                <a:chOff x="5915880" y="1528560"/>
                <a:chExt cx="2000160" cy="7016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986800" y="1528560"/>
                  <a:ext cx="18586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4 (60.9)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915880" y="1528560"/>
                  <a:ext cx="2000160" cy="701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912320" y="2230200"/>
                <a:ext cx="4003200" cy="701640"/>
                <a:chOff x="1912320" y="2230200"/>
                <a:chExt cx="4003200" cy="7016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982520" y="2230200"/>
                  <a:ext cx="386244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% de Muertes Indirecta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912320" y="2230200"/>
                  <a:ext cx="4003200" cy="701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5915880" y="2230200"/>
                <a:ext cx="2000160" cy="701640"/>
                <a:chOff x="5915880" y="2230200"/>
                <a:chExt cx="2000160" cy="7016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5986800" y="2230200"/>
                  <a:ext cx="18586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4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9 (39.1)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915880" y="2230200"/>
                  <a:ext cx="2000160" cy="701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1" name=""/>
            <p:cNvSpPr/>
            <p:nvPr/>
          </p:nvSpPr>
          <p:spPr>
            <a:xfrm>
              <a:off x="1905120" y="1523880"/>
              <a:ext cx="6019200" cy="141264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RELACIÓN POR CAUSA DE MUE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3" name="2 Gráfico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8532720" cy="5445000"/>
          </a:xfrm>
          <a:prstGeom prst="rect">
            <a:avLst/>
          </a:prstGeom>
          <a:ln w="0">
            <a:noFill/>
          </a:ln>
        </p:spPr>
      </p:pic>
      <p:pic>
        <p:nvPicPr>
          <p:cNvPr id="314" name="3 Gráfico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3517920" cy="202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MUERTES POR CAUSAS Y GRUPOS ETAREOS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762120" y="1557360"/>
            <a:ext cx="8381520" cy="4190760"/>
            <a:chOff x="762120" y="1557360"/>
            <a:chExt cx="8381520" cy="4190760"/>
          </a:xfrm>
        </p:grpSpPr>
        <p:grpSp>
          <p:nvGrpSpPr>
            <p:cNvPr id="317" name=""/>
            <p:cNvGrpSpPr/>
            <p:nvPr/>
          </p:nvGrpSpPr>
          <p:grpSpPr>
            <a:xfrm>
              <a:off x="768240" y="1562040"/>
              <a:ext cx="8368200" cy="4180320"/>
              <a:chOff x="768240" y="1562040"/>
              <a:chExt cx="8368200" cy="418032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768240" y="1562040"/>
                <a:ext cx="1995120" cy="1524600"/>
                <a:chOff x="768240" y="1562040"/>
                <a:chExt cx="1995120" cy="15246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68240" y="1562040"/>
                  <a:ext cx="199512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768240" y="1562040"/>
                  <a:ext cx="1994760" cy="1524600"/>
                  <a:chOff x="768240" y="1562040"/>
                  <a:chExt cx="1994760" cy="15246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827640" y="1562040"/>
                    <a:ext cx="1875960" cy="1524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20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CAUSAS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768240" y="1562040"/>
                    <a:ext cx="1994760" cy="15246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3" name=""/>
              <p:cNvGrpSpPr/>
              <p:nvPr/>
            </p:nvGrpSpPr>
            <p:grpSpPr>
              <a:xfrm>
                <a:off x="2763720" y="1562040"/>
                <a:ext cx="4131360" cy="667080"/>
                <a:chOff x="2763720" y="1562040"/>
                <a:chExt cx="4131360" cy="6670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763720" y="1562040"/>
                  <a:ext cx="413136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5" name=""/>
                <p:cNvGrpSpPr/>
                <p:nvPr/>
              </p:nvGrpSpPr>
              <p:grpSpPr>
                <a:xfrm>
                  <a:off x="2763720" y="1562040"/>
                  <a:ext cx="4131000" cy="666720"/>
                  <a:chOff x="2763720" y="1562040"/>
                  <a:chExt cx="4131000" cy="66672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2823480" y="1562040"/>
                    <a:ext cx="4011480" cy="66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20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GRUPOS ETAREOS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763720" y="1562040"/>
                    <a:ext cx="4131000" cy="66672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8" name=""/>
              <p:cNvGrpSpPr/>
              <p:nvPr/>
            </p:nvGrpSpPr>
            <p:grpSpPr>
              <a:xfrm>
                <a:off x="6895440" y="1562040"/>
                <a:ext cx="1207440" cy="1524600"/>
                <a:chOff x="6895440" y="1562040"/>
                <a:chExt cx="1207440" cy="15246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895440" y="1562040"/>
                  <a:ext cx="120744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0" name=""/>
                <p:cNvGrpSpPr/>
                <p:nvPr/>
              </p:nvGrpSpPr>
              <p:grpSpPr>
                <a:xfrm>
                  <a:off x="6895440" y="1562040"/>
                  <a:ext cx="1207080" cy="1524600"/>
                  <a:chOff x="6895440" y="1562040"/>
                  <a:chExt cx="1207080" cy="152460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6955200" y="1562040"/>
                    <a:ext cx="1087560" cy="1524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2000" spc="-1" strike="noStrike">
                        <a:solidFill>
                          <a:srgbClr val="ffff99"/>
                        </a:solidFill>
                        <a:latin typeface="Humanst521 BT"/>
                      </a:rPr>
                      <a:t>TOTAL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895440" y="1562040"/>
                    <a:ext cx="1207080" cy="15246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3" name=""/>
              <p:cNvGrpSpPr/>
              <p:nvPr/>
            </p:nvGrpSpPr>
            <p:grpSpPr>
              <a:xfrm>
                <a:off x="8103600" y="1562040"/>
                <a:ext cx="1032840" cy="1524600"/>
                <a:chOff x="8103600" y="1562040"/>
                <a:chExt cx="1032840" cy="15246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8103600" y="1562040"/>
                  <a:ext cx="103284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5" name=""/>
                <p:cNvGrpSpPr/>
                <p:nvPr/>
              </p:nvGrpSpPr>
              <p:grpSpPr>
                <a:xfrm>
                  <a:off x="8103600" y="1562040"/>
                  <a:ext cx="1032480" cy="1524600"/>
                  <a:chOff x="8103600" y="1562040"/>
                  <a:chExt cx="1032480" cy="1524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8163360" y="1562040"/>
                    <a:ext cx="912600" cy="1524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20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%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8103600" y="1562040"/>
                    <a:ext cx="1032480" cy="15246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8" name=""/>
              <p:cNvGrpSpPr/>
              <p:nvPr/>
            </p:nvGrpSpPr>
            <p:grpSpPr>
              <a:xfrm>
                <a:off x="2763720" y="2229480"/>
                <a:ext cx="1032480" cy="857520"/>
                <a:chOff x="2763720" y="2229480"/>
                <a:chExt cx="1032480" cy="8575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763720" y="2229480"/>
                  <a:ext cx="103248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" name=""/>
                <p:cNvGrpSpPr/>
                <p:nvPr/>
              </p:nvGrpSpPr>
              <p:grpSpPr>
                <a:xfrm>
                  <a:off x="2763720" y="2229480"/>
                  <a:ext cx="1032120" cy="857160"/>
                  <a:chOff x="2763720" y="2229480"/>
                  <a:chExt cx="1032120" cy="85716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2823480" y="2229480"/>
                    <a:ext cx="912600" cy="85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20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15-19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2763720" y="2229480"/>
                    <a:ext cx="1032120" cy="857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3" name=""/>
              <p:cNvGrpSpPr/>
              <p:nvPr/>
            </p:nvGrpSpPr>
            <p:grpSpPr>
              <a:xfrm>
                <a:off x="3796560" y="2229480"/>
                <a:ext cx="1032840" cy="857520"/>
                <a:chOff x="3796560" y="2229480"/>
                <a:chExt cx="1032840" cy="8575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3796560" y="2229480"/>
                  <a:ext cx="103284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3796560" y="2229480"/>
                  <a:ext cx="1032480" cy="857160"/>
                  <a:chOff x="3796560" y="2229480"/>
                  <a:chExt cx="1032480" cy="85716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3856320" y="2229480"/>
                    <a:ext cx="912600" cy="85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20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20-29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3796560" y="2229480"/>
                    <a:ext cx="1032480" cy="857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8" name=""/>
              <p:cNvGrpSpPr/>
              <p:nvPr/>
            </p:nvGrpSpPr>
            <p:grpSpPr>
              <a:xfrm>
                <a:off x="4829760" y="2229480"/>
                <a:ext cx="1032480" cy="857520"/>
                <a:chOff x="4829760" y="2229480"/>
                <a:chExt cx="1032480" cy="8575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829760" y="2229480"/>
                  <a:ext cx="103248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0" name=""/>
                <p:cNvGrpSpPr/>
                <p:nvPr/>
              </p:nvGrpSpPr>
              <p:grpSpPr>
                <a:xfrm>
                  <a:off x="4829760" y="2229480"/>
                  <a:ext cx="1032120" cy="857160"/>
                  <a:chOff x="4829760" y="2229480"/>
                  <a:chExt cx="1032120" cy="8571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4889160" y="2229480"/>
                    <a:ext cx="913320" cy="85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20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30-39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4829760" y="2229480"/>
                    <a:ext cx="1032120" cy="857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3" name=""/>
              <p:cNvGrpSpPr/>
              <p:nvPr/>
            </p:nvGrpSpPr>
            <p:grpSpPr>
              <a:xfrm>
                <a:off x="5862600" y="2229480"/>
                <a:ext cx="1032480" cy="857520"/>
                <a:chOff x="5862600" y="2229480"/>
                <a:chExt cx="1032480" cy="8575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5862600" y="2229480"/>
                  <a:ext cx="103248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5862600" y="2229480"/>
                  <a:ext cx="1032120" cy="857160"/>
                  <a:chOff x="5862600" y="2229480"/>
                  <a:chExt cx="1032120" cy="85716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5922000" y="2229480"/>
                    <a:ext cx="913320" cy="85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20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40 a más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5862600" y="2229480"/>
                    <a:ext cx="1032120" cy="857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8" name=""/>
              <p:cNvGrpSpPr/>
              <p:nvPr/>
            </p:nvGrpSpPr>
            <p:grpSpPr>
              <a:xfrm>
                <a:off x="768240" y="3087360"/>
                <a:ext cx="1995120" cy="1256760"/>
                <a:chOff x="768240" y="3087360"/>
                <a:chExt cx="1995120" cy="12567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827640" y="3087360"/>
                  <a:ext cx="1875960" cy="125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</a:rPr>
                    <a:t>DIRECTAS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68240" y="3087360"/>
                  <a:ext cx="1995120" cy="1256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763720" y="3087360"/>
                <a:ext cx="1032480" cy="1256760"/>
                <a:chOff x="2763720" y="3087360"/>
                <a:chExt cx="1032480" cy="12567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823480" y="3087360"/>
                  <a:ext cx="912960" cy="125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763720" y="3087360"/>
                  <a:ext cx="1032480" cy="1256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796560" y="3087360"/>
                <a:ext cx="1032840" cy="1256760"/>
                <a:chOff x="3796560" y="3087360"/>
                <a:chExt cx="1032840" cy="12567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856320" y="3087360"/>
                  <a:ext cx="912960" cy="125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4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796560" y="3087360"/>
                  <a:ext cx="1032840" cy="1256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4829760" y="3087360"/>
                <a:ext cx="1032480" cy="1256760"/>
                <a:chOff x="4829760" y="3087360"/>
                <a:chExt cx="1032480" cy="12567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4889160" y="3087360"/>
                  <a:ext cx="913320" cy="125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9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829760" y="3087360"/>
                  <a:ext cx="1032480" cy="1256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5862600" y="3087360"/>
                <a:ext cx="1032480" cy="1256760"/>
                <a:chOff x="5862600" y="3087360"/>
                <a:chExt cx="1032480" cy="12567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5922000" y="3087360"/>
                  <a:ext cx="913320" cy="125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862600" y="3087360"/>
                  <a:ext cx="1032480" cy="1256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6895440" y="3087360"/>
                <a:ext cx="1207440" cy="1256760"/>
                <a:chOff x="6895440" y="3087360"/>
                <a:chExt cx="1207440" cy="12567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6955200" y="3087360"/>
                  <a:ext cx="1087920" cy="125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4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895440" y="3087360"/>
                  <a:ext cx="1207440" cy="1256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8103600" y="3087360"/>
                <a:ext cx="1032840" cy="1256760"/>
                <a:chOff x="8103600" y="3087360"/>
                <a:chExt cx="1032840" cy="12567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8163360" y="3087360"/>
                  <a:ext cx="912960" cy="125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60.9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8103600" y="3087360"/>
                  <a:ext cx="1032840" cy="1256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768240" y="4344840"/>
                <a:ext cx="1995120" cy="698400"/>
                <a:chOff x="768240" y="4344840"/>
                <a:chExt cx="1995120" cy="6984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27640" y="4344840"/>
                  <a:ext cx="187596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INDIRECTAS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68240" y="4344840"/>
                  <a:ext cx="1995120" cy="69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2763720" y="4344840"/>
                <a:ext cx="1032480" cy="698400"/>
                <a:chOff x="2763720" y="4344840"/>
                <a:chExt cx="1032480" cy="6984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2823480" y="4344840"/>
                  <a:ext cx="91296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763720" y="4344840"/>
                  <a:ext cx="1032480" cy="69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3796560" y="4344840"/>
                <a:ext cx="1032840" cy="698400"/>
                <a:chOff x="3796560" y="4344840"/>
                <a:chExt cx="1032840" cy="6984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856320" y="4344840"/>
                  <a:ext cx="91296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4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796560" y="4344840"/>
                  <a:ext cx="1032840" cy="69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4829760" y="4344840"/>
                <a:ext cx="1032480" cy="698400"/>
                <a:chOff x="4829760" y="4344840"/>
                <a:chExt cx="1032480" cy="69840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4889160" y="4344840"/>
                  <a:ext cx="91332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4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829760" y="4344840"/>
                  <a:ext cx="1032480" cy="69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5862600" y="4344840"/>
                <a:ext cx="1032480" cy="698400"/>
                <a:chOff x="5862600" y="4344840"/>
                <a:chExt cx="1032480" cy="69840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5922000" y="4344840"/>
                  <a:ext cx="91332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862600" y="4344840"/>
                  <a:ext cx="1032480" cy="69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6895440" y="4344840"/>
                <a:ext cx="1207440" cy="698400"/>
                <a:chOff x="6895440" y="4344840"/>
                <a:chExt cx="1207440" cy="69840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6955200" y="4344840"/>
                  <a:ext cx="108792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9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895440" y="4344840"/>
                  <a:ext cx="1207440" cy="69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8103600" y="4344840"/>
                <a:ext cx="1032840" cy="698400"/>
                <a:chOff x="8103600" y="4344840"/>
                <a:chExt cx="1032840" cy="69840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8163360" y="4344840"/>
                  <a:ext cx="91296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PE" sz="2000" spc="-1" strike="noStrike">
                      <a:solidFill>
                        <a:srgbClr val="eaeaea"/>
                      </a:solidFill>
                      <a:latin typeface="Humanst521 BT"/>
                      <a:ea typeface="Times New Roman"/>
                    </a:rPr>
                    <a:t>39.1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103600" y="4344840"/>
                  <a:ext cx="1032840" cy="69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768240" y="5043960"/>
                <a:ext cx="1995120" cy="698400"/>
                <a:chOff x="768240" y="5043960"/>
                <a:chExt cx="1995120" cy="6984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768240" y="5043960"/>
                  <a:ext cx="199512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2" name=""/>
                <p:cNvGrpSpPr/>
                <p:nvPr/>
              </p:nvGrpSpPr>
              <p:grpSpPr>
                <a:xfrm>
                  <a:off x="768240" y="5043960"/>
                  <a:ext cx="1994760" cy="698040"/>
                  <a:chOff x="768240" y="5043960"/>
                  <a:chExt cx="1994760" cy="69804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>
                    <a:off x="827640" y="5043960"/>
                    <a:ext cx="1875960" cy="698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20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TOTAL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768240" y="5043960"/>
                    <a:ext cx="1994760" cy="6980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2763720" y="5043960"/>
                <a:ext cx="1032480" cy="698400"/>
                <a:chOff x="2763720" y="5043960"/>
                <a:chExt cx="1032480" cy="6984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2763720" y="5043960"/>
                  <a:ext cx="103248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7" name=""/>
                <p:cNvGrpSpPr/>
                <p:nvPr/>
              </p:nvGrpSpPr>
              <p:grpSpPr>
                <a:xfrm>
                  <a:off x="2763720" y="5043960"/>
                  <a:ext cx="1032120" cy="698040"/>
                  <a:chOff x="2763720" y="5043960"/>
                  <a:chExt cx="1032120" cy="6980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2823480" y="5043960"/>
                    <a:ext cx="912600" cy="698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20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763720" y="5043960"/>
                    <a:ext cx="1032120" cy="6980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0" name=""/>
              <p:cNvGrpSpPr/>
              <p:nvPr/>
            </p:nvGrpSpPr>
            <p:grpSpPr>
              <a:xfrm>
                <a:off x="3796560" y="5043960"/>
                <a:ext cx="1032840" cy="698400"/>
                <a:chOff x="3796560" y="5043960"/>
                <a:chExt cx="1032840" cy="69840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3796560" y="5043960"/>
                  <a:ext cx="103284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2" name=""/>
                <p:cNvGrpSpPr/>
                <p:nvPr/>
              </p:nvGrpSpPr>
              <p:grpSpPr>
                <a:xfrm>
                  <a:off x="3796560" y="5043960"/>
                  <a:ext cx="1032480" cy="698040"/>
                  <a:chOff x="3796560" y="5043960"/>
                  <a:chExt cx="1032480" cy="69804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3856320" y="5043960"/>
                    <a:ext cx="912600" cy="698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20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8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3796560" y="5043960"/>
                    <a:ext cx="1032480" cy="6980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5" name=""/>
              <p:cNvGrpSpPr/>
              <p:nvPr/>
            </p:nvGrpSpPr>
            <p:grpSpPr>
              <a:xfrm>
                <a:off x="4829760" y="5043960"/>
                <a:ext cx="1032480" cy="698400"/>
                <a:chOff x="4829760" y="5043960"/>
                <a:chExt cx="1032480" cy="6984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829760" y="5043960"/>
                  <a:ext cx="103248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7" name=""/>
                <p:cNvGrpSpPr/>
                <p:nvPr/>
              </p:nvGrpSpPr>
              <p:grpSpPr>
                <a:xfrm>
                  <a:off x="4829760" y="5043960"/>
                  <a:ext cx="1032120" cy="698040"/>
                  <a:chOff x="4829760" y="5043960"/>
                  <a:chExt cx="1032120" cy="69804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4889160" y="5043960"/>
                    <a:ext cx="913320" cy="698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20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13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4829760" y="5043960"/>
                    <a:ext cx="1032120" cy="6980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0" name=""/>
              <p:cNvGrpSpPr/>
              <p:nvPr/>
            </p:nvGrpSpPr>
            <p:grpSpPr>
              <a:xfrm>
                <a:off x="5862600" y="5043960"/>
                <a:ext cx="1032480" cy="698400"/>
                <a:chOff x="5862600" y="5043960"/>
                <a:chExt cx="1032480" cy="69840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862600" y="5043960"/>
                  <a:ext cx="103248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2" name=""/>
                <p:cNvGrpSpPr/>
                <p:nvPr/>
              </p:nvGrpSpPr>
              <p:grpSpPr>
                <a:xfrm>
                  <a:off x="5862600" y="5043960"/>
                  <a:ext cx="1032120" cy="698040"/>
                  <a:chOff x="5862600" y="5043960"/>
                  <a:chExt cx="1032120" cy="69804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5922000" y="5043960"/>
                    <a:ext cx="913320" cy="698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20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5862600" y="5043960"/>
                    <a:ext cx="1032120" cy="6980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5" name=""/>
              <p:cNvGrpSpPr/>
              <p:nvPr/>
            </p:nvGrpSpPr>
            <p:grpSpPr>
              <a:xfrm>
                <a:off x="6895440" y="5043960"/>
                <a:ext cx="1207440" cy="698400"/>
                <a:chOff x="6895440" y="5043960"/>
                <a:chExt cx="1207440" cy="6984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6895440" y="5043960"/>
                  <a:ext cx="120744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6895440" y="5043960"/>
                  <a:ext cx="1207080" cy="698040"/>
                  <a:chOff x="6895440" y="5043960"/>
                  <a:chExt cx="1207080" cy="69804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6955200" y="5043960"/>
                    <a:ext cx="1087560" cy="698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20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23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6895440" y="5043960"/>
                    <a:ext cx="1207080" cy="6980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0" name=""/>
              <p:cNvGrpSpPr/>
              <p:nvPr/>
            </p:nvGrpSpPr>
            <p:grpSpPr>
              <a:xfrm>
                <a:off x="8103600" y="5043960"/>
                <a:ext cx="1032840" cy="698400"/>
                <a:chOff x="8103600" y="5043960"/>
                <a:chExt cx="1032840" cy="6984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8103600" y="5043960"/>
                  <a:ext cx="103284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8103600" y="5043960"/>
                  <a:ext cx="1032480" cy="698040"/>
                  <a:chOff x="8103600" y="5043960"/>
                  <a:chExt cx="1032480" cy="69804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8163360" y="5043960"/>
                    <a:ext cx="912600" cy="698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PE" sz="2000" spc="-1" strike="noStrike">
                        <a:solidFill>
                          <a:srgbClr val="ffff99"/>
                        </a:solidFill>
                        <a:latin typeface="Humanst521 BT"/>
                        <a:ea typeface="Times New Roman"/>
                      </a:rPr>
                      <a:t>100.00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8103600" y="5043960"/>
                    <a:ext cx="1032480" cy="6980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35" name=""/>
            <p:cNvSpPr/>
            <p:nvPr/>
          </p:nvSpPr>
          <p:spPr>
            <a:xfrm>
              <a:off x="762120" y="1557360"/>
              <a:ext cx="8381520" cy="419076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MUERTES POR CAUSAS Y GRUPOS ETAREOS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7" name="2 Gráfico" descr=""/>
          <p:cNvPicPr/>
          <p:nvPr/>
        </p:nvPicPr>
        <p:blipFill>
          <a:blip r:embed="rId1"/>
          <a:stretch/>
        </p:blipFill>
        <p:spPr>
          <a:xfrm>
            <a:off x="863640" y="1413000"/>
            <a:ext cx="8280360" cy="544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6T17:00:14Z</dcterms:created>
  <dc:creator>Programa de Fortalecimiento de Servicios de Salud</dc:creator>
  <dc:description/>
  <dc:language>en-US</dc:language>
  <cp:lastModifiedBy>u1</cp:lastModifiedBy>
  <cp:lastPrinted>2000-01-19T19:51:21Z</cp:lastPrinted>
  <dcterms:modified xsi:type="dcterms:W3CDTF">2007-02-14T15:15:31Z</dcterms:modified>
  <cp:revision>179</cp:revision>
  <dc:subject/>
  <dc:title>MARCO PARA LA REFORMA EN EL SUBSECTOR PUBLICO DE SALUD</dc:title>
</cp:coreProperties>
</file>